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56D-8474-40DF-9108-750BE6FB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C28-E598-40EA-BE69-B9927C3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032-6E56-46F0-A9AC-D3E03F98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E60-F154-4BDF-B6EA-B9641AD2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ABD8-A54C-46B5-B8A4-0AF4FB25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94B1-7A8F-457B-AF58-0DC32C5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2EB-FB84-4002-9B8A-BD3EAA0B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281-8B0F-4545-838C-4D056D3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B7D-2913-4910-9B27-2517E87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A54E-616C-4455-AC27-3204464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8FB5-3622-47DC-9DFB-0AD8FE7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796-1DDF-4ED2-99C4-FFEDFB9C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3041-6F08-4303-B501-AB5CC62E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56A-8321-435E-957C-D82AB6A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220C-76CF-4AD3-AF7F-890180F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1EBA-27E1-47A6-9E82-7A3501A3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7DC5-0F61-405A-A403-E7C7FDDD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A2C5-DCEA-4032-A0B2-BE31A3CA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9EA2-CFDD-4151-A5EE-8D730B8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7625-9E25-4AA1-836B-82A171F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7B08-2235-458A-A4D7-73073497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76DA-E12B-4CF1-9DA8-57B27FE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099-C6DF-412F-9AFA-CA4585EF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C9D4-7088-423A-92B7-39AF74C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F911-B0B6-467B-966A-58CC3DE2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996C-3AF8-4AC7-BC6C-B4A6862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314F-3BEF-46DB-8793-A86E3CF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C417-DFFA-4C32-9202-4ADB153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4A6A-441B-4B06-9676-8C303F59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4A4F-AFCE-46CE-BD26-5BDE4417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844D-90B9-4E47-A5A7-7D516A9F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1489-32F6-40F7-8259-EAC5B3F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A92E-87A3-4964-9150-0037FFD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209-033D-4D8C-902A-AD5E337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4C18-D25F-4A86-95EF-3BA3F3E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4C62-F5EC-48C7-A1E3-352A930A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DC6C-BABB-48EE-B9AE-9C75F28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AD93-617B-40D5-B38F-47464D2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3B41-6621-4B39-BB5F-F2E8A25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AE66-3702-44E0-8851-51370CF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C3EF-729A-457C-830B-64605EDF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965E-2ADF-4CB0-B1BA-0AE87FD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ACF5-30D3-43B2-8B9F-48A91EE9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B05-C540-4480-B9E1-9CDB15B3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398-0EF8-40FF-874A-5314C5C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BF6-9F62-430F-8D72-7E06D70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D61-9B0B-4C96-A34D-D5692DF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B42-7E06-473D-ACF3-6D81379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2FB038E6-B8F4-4AAA-9CE6-CB8DD5F4E2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54263B68-522D-4965-B945-E9B7D14E846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CB442B32-6EA1-4BAA-B6FA-EAEB3E1F133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62C3D7EC-D5AF-4E21-8728-9B618FABE45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4C6D-0466-4A5F-B079-1975AF7F534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313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321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E6D7-80DB-4ADE-A9FB-11118657E2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xamples without network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or, at least, no straightforward network interpreta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0948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3A40-BB2E-4E02-9F0B-A87474D842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cloud of n-d poi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76400" y="274176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4176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212200" y="2133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l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3008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lood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152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359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09000" y="2631960"/>
            <a:ext cx="842040" cy="1983600"/>
            <a:chOff x="909000" y="2631960"/>
            <a:chExt cx="842040" cy="1983600"/>
          </a:xfrm>
        </p:grpSpPr>
        <p:sp>
          <p:nvSpPr>
            <p:cNvPr id="339" name=""/>
            <p:cNvSpPr/>
            <p:nvPr/>
          </p:nvSpPr>
          <p:spPr>
            <a:xfrm>
              <a:off x="90972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412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00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2520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832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9456-6367-4C13-A54F-464FA3875B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sensor-ids and time-tic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188360" y="278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56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83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0456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114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100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009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umi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4320" y="2286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17680" y="430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534520" y="99072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486E-BBD3-4459-B783-85F5B2B948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905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681-E0E9-4045-A932-BD3EACD952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F66-6AE6-4367-BA7E-2730C0F8B3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1847880" y="1569960"/>
            <a:ext cx="2077920" cy="1560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81720" y="1467000"/>
            <a:ext cx="2187360" cy="163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915160" y="3981600"/>
            <a:ext cx="1620720" cy="162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19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0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0240" y="5605560"/>
            <a:ext cx="251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4400" y="5607000"/>
            <a:ext cx="221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" name="Rectangle 3" descr=""/>
          <p:cNvPicPr/>
          <p:nvPr/>
        </p:nvPicPr>
        <p:blipFill>
          <a:blip r:embed="rId4"/>
          <a:stretch/>
        </p:blipFill>
        <p:spPr>
          <a:xfrm>
            <a:off x="1685880" y="3687840"/>
            <a:ext cx="227808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8725-6184-4C24-817D-F77AB4EEB1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R: bi-partite graphs (doc-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: hyper-text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mor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74600" y="1752480"/>
            <a:ext cx="2579400" cy="1500840"/>
            <a:chOff x="6474600" y="1752480"/>
            <a:chExt cx="2579400" cy="1500840"/>
          </a:xfrm>
        </p:grpSpPr>
        <p:sp>
          <p:nvSpPr>
            <p:cNvPr id="192" name=""/>
            <p:cNvSpPr/>
            <p:nvPr/>
          </p:nvSpPr>
          <p:spPr>
            <a:xfrm>
              <a:off x="8267760" y="28954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67760" y="19810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67760" y="21333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67760" y="25905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7760" y="27432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3360" y="20574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3360" y="22096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53360" y="26668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53360" y="28191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74600" y="179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08800" y="266688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74120" y="1752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30560" y="274320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197" idx="6"/>
              <a:endCxn id="194" idx="2"/>
            </p:cNvCxnSpPr>
            <p:nvPr/>
          </p:nvCxnSpPr>
          <p:spPr>
            <a:xfrm>
              <a:off x="7448040" y="2095200"/>
              <a:ext cx="801000" cy="766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6" name=""/>
            <p:cNvCxnSpPr>
              <a:stCxn id="197" idx="6"/>
              <a:endCxn id="195" idx="0"/>
            </p:cNvCxnSpPr>
            <p:nvPr/>
          </p:nvCxnSpPr>
          <p:spPr>
            <a:xfrm>
              <a:off x="7448400" y="2095560"/>
              <a:ext cx="858240" cy="4766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7" name=""/>
            <p:cNvCxnSpPr>
              <a:stCxn id="200" idx="5"/>
              <a:endCxn id="194" idx="2"/>
            </p:cNvCxnSpPr>
            <p:nvPr/>
          </p:nvCxnSpPr>
          <p:spPr>
            <a:xfrm flipV="1">
              <a:off x="7417800" y="2170800"/>
              <a:ext cx="831240" cy="7326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7246800" y="217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61200" y="213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573-A951-4FB3-8FA7-1B0762E4BD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twork of companies &amp; board-of-directors memb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ral’ market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-log (‘blog’) news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r network security: email/IP traffic and anomal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M:N relationship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subject-verb-object construct: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FEC-A024-440C-864E-AB69214FFD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and matri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ful tools from matrix algebra, for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nd, conversely, great problems for CS/Math to solv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A52-EA57-4389-8E58-91373F6E09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Graph - social networ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328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10440" y="2057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152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5200" y="2057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i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3040" y="2631960"/>
            <a:ext cx="842040" cy="1983600"/>
            <a:chOff x="833040" y="2631960"/>
            <a:chExt cx="842040" cy="1983600"/>
          </a:xfrm>
        </p:grpSpPr>
        <p:sp>
          <p:nvSpPr>
            <p:cNvPr id="222" name=""/>
            <p:cNvSpPr/>
            <p:nvPr/>
          </p:nvSpPr>
          <p:spPr>
            <a:xfrm>
              <a:off x="83376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16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304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24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236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76400" y="2741760"/>
            <a:ext cx="6481800" cy="1733400"/>
            <a:chOff x="1976400" y="2741760"/>
            <a:chExt cx="6481800" cy="1733400"/>
          </a:xfrm>
        </p:grpSpPr>
        <p:sp>
          <p:nvSpPr>
            <p:cNvPr id="228" name=""/>
            <p:cNvSpPr/>
            <p:nvPr/>
          </p:nvSpPr>
          <p:spPr>
            <a:xfrm>
              <a:off x="1976400" y="2741760"/>
              <a:ext cx="648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6400" y="2741760"/>
              <a:ext cx="6481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6400" y="2741760"/>
              <a:ext cx="1800" cy="1733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76400" y="2741760"/>
              <a:ext cx="20520" cy="1733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72960" y="2762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5556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1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4760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2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000" y="2762280"/>
              <a:ext cx="371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4080" y="276228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78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02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904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2108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64080" y="310500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9520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872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96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716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640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9520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872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796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16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640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520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872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796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716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640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76400" y="27417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6400" y="274176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76400" y="308448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8448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6400" y="34275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6400" y="3427560"/>
              <a:ext cx="6461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6400" y="37688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6400" y="37688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6400" y="411156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76400" y="4111560"/>
              <a:ext cx="64612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6400" y="44546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76400" y="44546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7640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64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880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688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084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08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324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32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4528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452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3768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376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095-85AD-41BF-9486-2CDE743538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Market basket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rket baske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in Association Ru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1480" y="2286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l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10800" y="2286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71520" y="2286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5200" y="228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3040" y="2784600"/>
            <a:ext cx="842040" cy="1983600"/>
            <a:chOff x="833040" y="2784600"/>
            <a:chExt cx="842040" cy="1983600"/>
          </a:xfrm>
        </p:grpSpPr>
        <p:sp>
          <p:nvSpPr>
            <p:cNvPr id="291" name=""/>
            <p:cNvSpPr/>
            <p:nvPr/>
          </p:nvSpPr>
          <p:spPr>
            <a:xfrm>
              <a:off x="833760" y="27846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8160" y="3124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3040" y="34290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9240" y="3809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2360" y="4308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7D9-507A-4219-BC9A-4E5E22949F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ocument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76400" y="2852640"/>
          <a:ext cx="6481800" cy="17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52640"/>
                    <a:ext cx="648180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66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196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" y="3657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196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11840" y="2244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10080" y="2244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70440" y="22446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6000" y="22446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3440" y="2362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544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500-01AA-4B02-B61A-82E516A8B6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18:16Z</dcterms:modified>
  <cp:revision>181</cp:revision>
  <dc:subject/>
  <dc:title>Large graph mining</dc:title>
</cp:coreProperties>
</file>