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53D782-BF3C-4302-A40E-009A31ECA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71065F-C3F1-4FDE-A9DC-B039E9953D53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E7BA47-D427-4B48-A031-70D0F6C68C9B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AD71C7-8416-437B-B5A5-F33791A71CBF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A3C045-E5FD-4DDD-98C8-41A8AF382D09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388-2C2F-402A-AF21-18114DD7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563-787B-4CA4-8609-5FF8C48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2FF-B710-4866-A35B-FB368409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10D-B011-497E-9B76-34CD1B34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B09D-FC80-4458-B2DC-9CC2086C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EF87-3EAF-4C5F-A908-35F886E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651C-F1A2-42AC-ADA1-5806115E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562-40F0-49C7-BE78-B08CF7D4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4627-3473-4F37-9C6F-836273E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3700-C100-4792-BDE8-5005A7F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BCE8-A369-46E2-B533-6FC0527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E7B-804D-42F3-852C-BFC68A3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1BC0-3AC3-40B7-BFB5-554055E6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83DD-69D9-425C-8F45-89DBF25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C7A0-3225-467D-98E0-D74C9D6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A879-FCA0-48D5-8D08-FC427662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20B1-1331-4428-9AEE-A672AE04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C9F8-51C8-452E-AD0C-521B6B53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6864-1BFE-4BC3-9ED2-0757C23B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B0E7-4AFD-402A-B3F0-6825E4A7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DAD1-44A6-4BA0-8BA3-0248F84D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692C-BF01-423D-9FED-8A9ADE77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BB5-4033-43F0-861D-4657F7B4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B75B8-534C-463E-BFC2-257B03FB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5C73-1E8F-41AC-B1DF-B2ECBFD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1964-A7EF-4866-A276-80CC5BE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527A-18B7-49C2-A5E2-615D628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98F9-53F1-4C29-946A-976722E5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DF36-0310-4558-8663-1B6C702B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88A4-D7E3-40A1-91CD-F763317F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E2B8-8696-4DA1-9318-58AD520A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A09C-451A-4D71-8E06-EE4AEDC0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E2BA-51A6-490C-8233-31A7E8B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93A-7F09-470A-8D3C-ABBD462C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D289-2BE1-4B95-ACFB-8608DEB0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7172-1B8B-4334-BF5D-45D59BA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36E7-8E1E-413A-B95D-0E613CD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F046-8216-4EE2-A08C-A2A6997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00E4E-6938-43BB-83E6-466F7AA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122F-FAC3-4E9E-A0E3-B7D17C15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B934F-D31F-421F-8AC6-9540D47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B438-61C3-4DBF-A5C8-A47A5597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75F7-9175-432F-9704-55B36A2D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A15-47D1-4BAD-8196-F8364D9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EE8-6408-4F49-93A4-F6FF610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1A0-4F85-4C52-840B-5CAB6D5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379-54AB-495F-8C0B-363D346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86E-055F-4300-BABE-44FEC4C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D65F36A5-E31E-44EB-8BB9-8A559C67BF4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2-</a:t>
            </a:r>
            <a:fld id="{D3D90DFE-B48A-4727-9DF0-74C32C84382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12F60228-AD0F-4EC6-A684-949680A0368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3745E737-1216-445D-9216-7D3FC024686C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s.cmu.edu/~deepay/mywww/software/CrossAssociations-01-27-2005.tgz" TargetMode="External"/><Relationship Id="rId2" Type="http://schemas.openxmlformats.org/officeDocument/2006/relationships/hyperlink" Target="http://www.cs.cmu.edu/~deepay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si.edu/scan/mercator/maps.html" TargetMode="External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mn.edu/~metis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384-0BFB-40ED-906A-D225897F86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ft clustering – matrix decom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0DB1-028D-439D-9F87-43E9D55050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 defini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bi-partite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vide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ow groups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ow grou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lso applicable to uni-partite graph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6C4A-BDF6-4E0F-8AEB-A410B5FEEA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data matrix and the number of row and column group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ultaneous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uster rows int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 group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uster columns int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 grou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1828800" y="4267080"/>
            <a:ext cx="4740120" cy="2044440"/>
            <a:chOff x="1828800" y="4267080"/>
            <a:chExt cx="4740120" cy="2044440"/>
          </a:xfrm>
        </p:grpSpPr>
        <p:pic>
          <p:nvPicPr>
            <p:cNvPr id="265" name="Picture 6" descr="PZ"/>
            <p:cNvPicPr/>
            <p:nvPr/>
          </p:nvPicPr>
          <p:blipFill>
            <a:blip r:embed="rId1"/>
            <a:stretch/>
          </p:blipFill>
          <p:spPr>
            <a:xfrm>
              <a:off x="1828800" y="4419360"/>
              <a:ext cx="19033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" descr="cave"/>
            <p:cNvPicPr/>
            <p:nvPr/>
          </p:nvPicPr>
          <p:blipFill>
            <a:blip r:embed="rId2"/>
            <a:stretch/>
          </p:blipFill>
          <p:spPr>
            <a:xfrm>
              <a:off x="4648320" y="4267080"/>
              <a:ext cx="192060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8"/>
            <p:cNvSpPr/>
            <p:nvPr/>
          </p:nvSpPr>
          <p:spPr>
            <a:xfrm>
              <a:off x="3811680" y="5181480"/>
              <a:ext cx="760320" cy="228600"/>
            </a:xfrm>
            <a:prstGeom prst="rightArrow">
              <a:avLst>
                <a:gd name="adj1" fmla="val 50000"/>
                <a:gd name="adj2" fmla="val 8315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105520" y="4267080"/>
              <a:ext cx="1218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23F3-F459-4E50-AA3F-4D63381F22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CA4F1989-6603-48FF-82B1-C50B29B818F5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e discrete random variabl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Y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ake values in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{1, 2, …, m}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{1, 2, …, n}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p(X, Y)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notes the joint probability distribution—if not known, it is often estimated based o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co-occurrenc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 areas: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text min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market-basket analysis, analysis of browsing behavior, etc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ey Obstacles in Clustering Contingency Tabl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igh Dimensionality, Sparsity, Noi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ed for robust and scalable algorithm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Referenc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hillon et al. Information-Theoretic Co-clustering, KDD’0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9FE-BADD-406E-BA56-E4FC405A9C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24080" y="130500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5486400" y="351468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642960" y="351468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962000" y="351468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2800440" y="35910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16"/>
          <p:cNvSpPr/>
          <p:nvPr/>
        </p:nvSpPr>
        <p:spPr>
          <a:xfrm>
            <a:off x="24696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734920" y="1917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897000" y="85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3668400" y="3137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181600" y="31370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1717560" y="37465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925560" y="30607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2629080" y="35942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5638680" y="42004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5638680" y="48099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26"/>
          <p:cNvSpPr/>
          <p:nvPr/>
        </p:nvSpPr>
        <p:spPr>
          <a:xfrm>
            <a:off x="7010280" y="366696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27"/>
          <p:cNvSpPr/>
          <p:nvPr/>
        </p:nvSpPr>
        <p:spPr>
          <a:xfrm>
            <a:off x="3276720" y="77148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28"/>
          <p:cNvSpPr/>
          <p:nvPr/>
        </p:nvSpPr>
        <p:spPr>
          <a:xfrm>
            <a:off x="4267080" y="100008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29"/>
          <p:cNvSpPr/>
          <p:nvPr/>
        </p:nvSpPr>
        <p:spPr>
          <a:xfrm>
            <a:off x="5486400" y="1380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30"/>
          <p:cNvSpPr/>
          <p:nvPr/>
        </p:nvSpPr>
        <p:spPr>
          <a:xfrm>
            <a:off x="5791320" y="206676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6172200" y="267660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32"/>
          <p:cNvSpPr/>
          <p:nvPr/>
        </p:nvSpPr>
        <p:spPr>
          <a:xfrm>
            <a:off x="5863320" y="15336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g, terms x docu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D6FB-267D-434F-AAE5-68DFF3112C8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24080" y="132408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86400" y="353376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642960" y="353376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962000" y="353376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2800440" y="361008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Line 22"/>
          <p:cNvSpPr/>
          <p:nvPr/>
        </p:nvSpPr>
        <p:spPr>
          <a:xfrm>
            <a:off x="5638680" y="42195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5638680" y="482904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7010280" y="36860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5"/>
          <p:cNvSpPr/>
          <p:nvPr/>
        </p:nvSpPr>
        <p:spPr>
          <a:xfrm>
            <a:off x="3276720" y="79056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4267080" y="101916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7"/>
          <p:cNvSpPr/>
          <p:nvPr/>
        </p:nvSpPr>
        <p:spPr>
          <a:xfrm>
            <a:off x="5486400" y="14000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28"/>
          <p:cNvSpPr/>
          <p:nvPr/>
        </p:nvSpPr>
        <p:spPr>
          <a:xfrm>
            <a:off x="5791320" y="208584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6172200" y="269568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277080" y="4600440"/>
            <a:ext cx="165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408600" y="2238480"/>
            <a:ext cx="203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term group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doc.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4"/>
          <p:cNvSpPr/>
          <p:nvPr/>
        </p:nvSpPr>
        <p:spPr>
          <a:xfrm>
            <a:off x="1905120" y="3152880"/>
            <a:ext cx="22860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5715360" y="132408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95880" y="20098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323760" y="2543040"/>
            <a:ext cx="237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common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2429640" y="16524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041720" y="393840"/>
            <a:ext cx="113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305280" y="5819760"/>
            <a:ext cx="1799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-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36E-21FD-4B8C-8B64-F48797BDE9C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s KL divergence, instead of L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 middle matrix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ag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’ll see that again in the Tucker tensor decom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/w 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ww.cs.utexas.edu/users/dml/Software/cocluster.ht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8F3-F0E3-45DF-94CB-2903E49438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k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k,l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ft clustering – matrix decom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32767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442-735E-42C2-A2F2-1F1836E859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Problem with Information Theoretic Co-clustering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umber of row and column groups must be specifi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733920"/>
            <a:ext cx="7391520" cy="21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taneously discov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w and column grou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y Automatic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o “magic numbe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large grap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36BC-42A7-404A-8E2C-99294C9AE5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ross-associ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89280" y="1295280"/>
            <a:ext cx="4740120" cy="2044440"/>
            <a:chOff x="1889280" y="1295280"/>
            <a:chExt cx="4740120" cy="204444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889280" y="1447560"/>
              <a:ext cx="19033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4708800" y="1295280"/>
              <a:ext cx="192060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872160" y="2209680"/>
              <a:ext cx="760320" cy="228600"/>
            </a:xfrm>
            <a:prstGeom prst="rightArrow">
              <a:avLst>
                <a:gd name="adj1" fmla="val 50000"/>
                <a:gd name="adj2" fmla="val 8315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6000" y="1295280"/>
              <a:ext cx="1218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733920"/>
            <a:ext cx="7391520" cy="21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taneously discov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w and column grou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y Automatic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o “magic numbe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large matr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Referenc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Chakrabarti et al. Fully Automatic Cross-Associations, KDD’0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1E1B-9462-4E8F-AFB1-F0E94FE0A4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47A-1597-45CF-9517-CFE1366D98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12880" y="1905120"/>
            <a:ext cx="5335200" cy="2599920"/>
            <a:chOff x="812880" y="1905120"/>
            <a:chExt cx="5335200" cy="259992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999720" y="1967400"/>
              <a:ext cx="1946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141440" y="1905120"/>
              <a:ext cx="200664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09240" y="2722680"/>
              <a:ext cx="9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ersu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4220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212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250640" y="272124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50640" y="322380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14000" y="3852000"/>
              <a:ext cx="1633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2720" y="3862440"/>
              <a:ext cx="163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18108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333180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32640" y="1905120"/>
              <a:ext cx="8168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705720" y="190512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y is this bett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51680" y="2533680"/>
            <a:ext cx="628560" cy="37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70E1-991E-493C-8288-9FEFA16E24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2880" y="1905120"/>
            <a:ext cx="5335200" cy="2599920"/>
            <a:chOff x="812880" y="1905120"/>
            <a:chExt cx="5335200" cy="25999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999720" y="1967400"/>
              <a:ext cx="1946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4141440" y="1905120"/>
              <a:ext cx="200664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009240" y="2722680"/>
              <a:ext cx="9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ersu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220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212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250640" y="272124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50640" y="322380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4000" y="3852000"/>
              <a:ext cx="1633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2720" y="3862440"/>
              <a:ext cx="163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18108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333180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640" y="1905120"/>
              <a:ext cx="8168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705720" y="190512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y is this bett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151680" y="2533680"/>
            <a:ext cx="628560" cy="37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53640" y="4800600"/>
            <a:ext cx="444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pler; easier to describ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asier to compres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64A3-2DB8-451C-ABAE-BFF2B8F18D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44640" y="1905120"/>
            <a:ext cx="3627360" cy="1460520"/>
            <a:chOff x="944640" y="1905120"/>
            <a:chExt cx="3627360" cy="146052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944640" y="1949400"/>
              <a:ext cx="137160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3157560" y="1905120"/>
              <a:ext cx="141444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609560" y="2081160"/>
              <a:ext cx="0" cy="1150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19160" y="2081160"/>
              <a:ext cx="0" cy="1150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120320" y="2479680"/>
              <a:ext cx="11509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120320" y="2833560"/>
              <a:ext cx="11509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09480" y="3505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: given an encoding sche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cide on the # of col. and row group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reorder rows and column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achieve best compres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FD54-B8AA-47C1-8637-177C8C879D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ain Idea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8600" y="2819520"/>
            <a:ext cx="8229600" cy="1755720"/>
            <a:chOff x="228600" y="2819520"/>
            <a:chExt cx="8229600" cy="1755720"/>
          </a:xfrm>
        </p:grpSpPr>
        <p:sp>
          <p:nvSpPr>
            <p:cNvPr id="380" name=""/>
            <p:cNvSpPr/>
            <p:nvPr/>
          </p:nvSpPr>
          <p:spPr>
            <a:xfrm>
              <a:off x="3962520" y="289548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ze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* H(x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 +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3600" y="281952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describing cross-association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4533840" y="2644560"/>
              <a:ext cx="380880" cy="1981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048440" y="2568240"/>
              <a:ext cx="380880" cy="2133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9880" y="39020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de Cos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8520" y="374976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Description Cos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1280" y="29113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ff0000"/>
                  </a:solidFill>
                  <a:latin typeface="Arial"/>
                </a:rPr>
                <a:t>Σ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860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Total Encoding Cost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066680" y="1727280"/>
            <a:ext cx="228600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Compr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210816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727280"/>
            <a:ext cx="198108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Clust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4724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mize the total cost (# bit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lossless compres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CC90-FF8F-424F-A3C0-C66785C566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582560"/>
            <a:ext cx="7696080" cy="4286160"/>
            <a:chOff x="685800" y="1582560"/>
            <a:chExt cx="7696080" cy="428616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5638680" y="1873080"/>
              <a:ext cx="1828800" cy="19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1447920" y="1873080"/>
              <a:ext cx="182880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430440" y="2711520"/>
              <a:ext cx="2132280" cy="152280"/>
            </a:xfrm>
            <a:prstGeom prst="rightArrow">
              <a:avLst>
                <a:gd name="adj1" fmla="val 50000"/>
                <a:gd name="adj2" fmla="val 350059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3468200">
              <a:off x="6972120" y="389196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400000">
              <a:off x="6773400" y="2717640"/>
              <a:ext cx="190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k = 5 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85800" y="3618000"/>
              <a:ext cx="1149480" cy="2250720"/>
              <a:chOff x="685800" y="3618000"/>
              <a:chExt cx="1149480" cy="2250720"/>
            </a:xfrm>
          </p:grpSpPr>
          <p:pic>
            <p:nvPicPr>
              <p:cNvPr id="4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7915200">
                <a:off x="1206360" y="3847680"/>
                <a:ext cx="685800" cy="152640"/>
              </a:xfrm>
              <a:prstGeom prst="rightArrow">
                <a:avLst>
                  <a:gd name="adj1" fmla="val 50000"/>
                  <a:gd name="adj2" fmla="val 112323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8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1, l=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600200" y="4233960"/>
              <a:ext cx="1143000" cy="1602720"/>
              <a:chOff x="1600200" y="4233960"/>
              <a:chExt cx="1143000" cy="1602720"/>
            </a:xfrm>
          </p:grpSpPr>
          <p:pic>
            <p:nvPicPr>
              <p:cNvPr id="4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880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60020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81080" y="519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2, l=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43200" y="4235400"/>
              <a:ext cx="1066680" cy="1601280"/>
              <a:chOff x="2743200" y="4235400"/>
              <a:chExt cx="1066680" cy="1601280"/>
            </a:xfrm>
          </p:grpSpPr>
          <p:pic>
            <p:nvPicPr>
              <p:cNvPr id="4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5480" y="423540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274320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24080" y="519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2, l=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809880" y="4233960"/>
              <a:ext cx="1143000" cy="1634760"/>
              <a:chOff x="3809880" y="4233960"/>
              <a:chExt cx="1143000" cy="1634760"/>
            </a:xfrm>
          </p:grpSpPr>
          <p:pic>
            <p:nvPicPr>
              <p:cNvPr id="4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8480" y="4233960"/>
                <a:ext cx="91440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3809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67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3, l=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952880" y="4233960"/>
              <a:ext cx="1143000" cy="1634760"/>
              <a:chOff x="4952880" y="4233960"/>
              <a:chExt cx="1143000" cy="163476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148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4952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10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3, l=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5880" y="4233960"/>
              <a:ext cx="1143000" cy="1634760"/>
              <a:chOff x="6095880" y="4233960"/>
              <a:chExt cx="1143000" cy="1634760"/>
            </a:xfrm>
          </p:grpSpPr>
          <p:pic>
            <p:nvPicPr>
              <p:cNvPr id="42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6095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53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4, l=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238880" y="4233960"/>
              <a:ext cx="1143000" cy="1634760"/>
              <a:chOff x="7238880" y="4233960"/>
              <a:chExt cx="1143000" cy="1634760"/>
            </a:xfrm>
          </p:grpSpPr>
          <p:pic>
            <p:nvPicPr>
              <p:cNvPr id="4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467480" y="4233960"/>
                <a:ext cx="91440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7238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96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4, l=5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6019920" y="1797120"/>
              <a:ext cx="1218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15000" y="1582560"/>
              <a:ext cx="190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 = 5 col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7B9F-E399-4579-99FF-972239D17C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2962080" cy="28432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657600" y="1523880"/>
            <a:ext cx="5105520" cy="449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IC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,893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,303 wo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4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76,347 “dot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bination of 3 sourc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 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SI (info.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-620640" y="24825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40384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D06-A9F3-4BAE-9568-D5782D475F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2962080" cy="28432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19112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29000" y="2590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8380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114300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4259160"/>
            <a:ext cx="4876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-620640" y="24825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0384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257-8B1D-4AD4-A7D8-445ADA681C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1143000"/>
            <a:ext cx="35816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sipidus, alveolar, aortic, death, prognosis, intravenou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285920"/>
            <a:ext cx="373392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lood, disease, clinical, cell, tissue, pati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1895400"/>
            <a:ext cx="30456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800240" y="1895400"/>
            <a:ext cx="1522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2428920"/>
            <a:ext cx="533520" cy="30481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2428920"/>
            <a:ext cx="228600" cy="30481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1790-1C19-43F4-AB36-96050D8249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2428920"/>
            <a:ext cx="914400" cy="304812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447920"/>
            <a:ext cx="38862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roviding, studying, records, development, students, r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1895400"/>
            <a:ext cx="30492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1143000"/>
            <a:ext cx="34290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bstract, notation, works, construct, bibliograph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486040" y="1895400"/>
            <a:ext cx="15228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98C-FF2B-4241-8DAE-88283B589F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43000" y="4730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441000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2428920"/>
            <a:ext cx="609480" cy="304812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1143000"/>
            <a:ext cx="289548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hape, nasa, leading, assumed, th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867280" y="1895400"/>
            <a:ext cx="152640" cy="5335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6C0-1985-4E95-8405-E61ED5C8AC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1337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048-8E49-4F15-A7F3-3CE3015173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441000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1285920"/>
            <a:ext cx="2971800" cy="703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int, examination, fall, raise, leave, bas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1895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730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E888-ECA4-4C7A-A390-293B94A1D0E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de for cross-associations (matlab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ff"/>
                </a:solidFill>
                <a:uFillTx/>
                <a:latin typeface="宋体"/>
                <a:hlinkClick r:id="rId1"/>
              </a:rPr>
              <a:t>www.cs.cmu.edu/~deepay/mywww/software/CrossAssociations-01-27-2005.tg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ariations and extens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opart’ [Chakrabarti, PKDD’04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宋体"/>
                <a:hlinkClick r:id="rId2"/>
              </a:rPr>
              <a:t>www.cs.cmu.edu/~deep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5" name="Rectangle 3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101628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BA2F-DD92-4ACF-9941-EB0E846AB7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adoop implementation [ICDM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8" name="Rectangle 3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1182600" cy="13352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5791320"/>
            <a:ext cx="9144000" cy="1099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piros Papadimitriou, Jimeng Sun: DisCo: Distributed Co-clustering with Map-Reduce: A Case Study towards Petabyte-Scale End-to-End Mining. ICDM 2008: 512-521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Rectangle 3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142848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6E41-4D20-4647-854C-2965E0548E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3886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CA7E-6312-4088-8B31-4C89CA4343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1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ewed degree distributions – there are nodes with huge degree (&gt;O(10^4), in facebook/linkedIn popularity contests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F1D-CDB7-4A16-B4E6-5789F12660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2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ybe there are no good cuts: ``jellyfish’’ shape [Tauro+’01], [Siganos+,’06], strange behavior of cuts [Chakrabarti+’04], [Leskovec+,’08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4038480"/>
            <a:ext cx="1447920" cy="1143000"/>
            <a:chOff x="457200" y="4038480"/>
            <a:chExt cx="1447920" cy="1143000"/>
          </a:xfrm>
        </p:grpSpPr>
        <p:sp>
          <p:nvSpPr>
            <p:cNvPr id="519" name=""/>
            <p:cNvSpPr/>
            <p:nvPr/>
          </p:nvSpPr>
          <p:spPr>
            <a:xfrm>
              <a:off x="685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2388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7200" y="4648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24" name=""/>
            <p:cNvCxnSpPr>
              <a:stCxn id="519" idx="6"/>
              <a:endCxn id="520" idx="2"/>
            </p:cNvCxnSpPr>
            <p:nvPr/>
          </p:nvCxnSpPr>
          <p:spPr>
            <a:xfrm>
              <a:off x="928800" y="4152600"/>
              <a:ext cx="581400" cy="1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5" name=""/>
            <p:cNvCxnSpPr>
              <a:stCxn id="519" idx="3"/>
              <a:endCxn id="523" idx="7"/>
            </p:cNvCxnSpPr>
            <p:nvPr/>
          </p:nvCxnSpPr>
          <p:spPr>
            <a:xfrm flipH="1">
              <a:off x="651960" y="4247640"/>
              <a:ext cx="67680" cy="4201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6" name=""/>
            <p:cNvCxnSpPr>
              <a:stCxn id="519" idx="5"/>
              <a:endCxn id="522" idx="1"/>
            </p:cNvCxnSpPr>
            <p:nvPr/>
          </p:nvCxnSpPr>
          <p:spPr>
            <a:xfrm>
              <a:off x="880560" y="4247640"/>
              <a:ext cx="219960" cy="724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7" name=""/>
            <p:cNvCxnSpPr>
              <a:stCxn id="519" idx="6"/>
              <a:endCxn id="521" idx="2"/>
            </p:cNvCxnSpPr>
            <p:nvPr/>
          </p:nvCxnSpPr>
          <p:spPr>
            <a:xfrm>
              <a:off x="928440" y="4152960"/>
              <a:ext cx="73404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8" name=""/>
            <p:cNvCxnSpPr>
              <a:stCxn id="520" idx="4"/>
              <a:endCxn id="521" idx="0"/>
            </p:cNvCxnSpPr>
            <p:nvPr/>
          </p:nvCxnSpPr>
          <p:spPr>
            <a:xfrm>
              <a:off x="1638000" y="4281120"/>
              <a:ext cx="153000" cy="2768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9" name=""/>
            <p:cNvCxnSpPr>
              <a:stCxn id="520" idx="2"/>
              <a:endCxn id="522" idx="0"/>
            </p:cNvCxnSpPr>
            <p:nvPr/>
          </p:nvCxnSpPr>
          <p:spPr>
            <a:xfrm flipH="1">
              <a:off x="1180800" y="4152600"/>
              <a:ext cx="329040" cy="786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0" name=""/>
            <p:cNvCxnSpPr>
              <a:stCxn id="523" idx="5"/>
              <a:endCxn id="522" idx="2"/>
            </p:cNvCxnSpPr>
            <p:nvPr/>
          </p:nvCxnSpPr>
          <p:spPr>
            <a:xfrm>
              <a:off x="652320" y="4857840"/>
              <a:ext cx="401040" cy="210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1" name=""/>
            <p:cNvCxnSpPr>
              <a:stCxn id="522" idx="7"/>
              <a:endCxn id="521" idx="3"/>
            </p:cNvCxnSpPr>
            <p:nvPr/>
          </p:nvCxnSpPr>
          <p:spPr>
            <a:xfrm flipV="1">
              <a:off x="1261800" y="4780800"/>
              <a:ext cx="448200" cy="191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2" name=""/>
            <p:cNvCxnSpPr>
              <a:stCxn id="523" idx="6"/>
              <a:endCxn id="521" idx="2"/>
            </p:cNvCxnSpPr>
            <p:nvPr/>
          </p:nvCxnSpPr>
          <p:spPr>
            <a:xfrm flipV="1">
              <a:off x="700200" y="4685760"/>
              <a:ext cx="96264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3" name=""/>
            <p:cNvCxnSpPr>
              <a:stCxn id="520" idx="2"/>
              <a:endCxn id="523" idx="6"/>
            </p:cNvCxnSpPr>
            <p:nvPr/>
          </p:nvCxnSpPr>
          <p:spPr>
            <a:xfrm flipH="1">
              <a:off x="699480" y="4152600"/>
              <a:ext cx="810360" cy="61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534" name="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4" idx="6"/>
            <a:endCxn id="535" idx="2"/>
          </p:cNvCxnSpPr>
          <p:nvPr/>
        </p:nvCxnSpPr>
        <p:spPr>
          <a:xfrm>
            <a:off x="3672000" y="4000320"/>
            <a:ext cx="581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0" name=""/>
          <p:cNvCxnSpPr>
            <a:stCxn id="534" idx="3"/>
            <a:endCxn id="538" idx="7"/>
          </p:cNvCxnSpPr>
          <p:nvPr/>
        </p:nvCxnSpPr>
        <p:spPr>
          <a:xfrm flipH="1">
            <a:off x="3395160" y="4095720"/>
            <a:ext cx="6768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1" name=""/>
          <p:cNvCxnSpPr>
            <a:stCxn id="534" idx="5"/>
            <a:endCxn id="537" idx="1"/>
          </p:cNvCxnSpPr>
          <p:nvPr/>
        </p:nvCxnSpPr>
        <p:spPr>
          <a:xfrm>
            <a:off x="3623760" y="4095360"/>
            <a:ext cx="219960" cy="724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2" name=""/>
          <p:cNvCxnSpPr>
            <a:stCxn id="534" idx="6"/>
            <a:endCxn id="536" idx="2"/>
          </p:cNvCxnSpPr>
          <p:nvPr/>
        </p:nvCxnSpPr>
        <p:spPr>
          <a:xfrm>
            <a:off x="3671640" y="4000320"/>
            <a:ext cx="734040" cy="5338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3" name=""/>
          <p:cNvCxnSpPr>
            <a:stCxn id="535" idx="4"/>
            <a:endCxn id="536" idx="0"/>
          </p:cNvCxnSpPr>
          <p:nvPr/>
        </p:nvCxnSpPr>
        <p:spPr>
          <a:xfrm>
            <a:off x="4381200" y="4128840"/>
            <a:ext cx="153000" cy="2768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4" name=""/>
          <p:cNvCxnSpPr>
            <a:stCxn id="535" idx="2"/>
            <a:endCxn id="537" idx="0"/>
          </p:cNvCxnSpPr>
          <p:nvPr/>
        </p:nvCxnSpPr>
        <p:spPr>
          <a:xfrm flipH="1">
            <a:off x="3924000" y="4000680"/>
            <a:ext cx="3290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5" name=""/>
          <p:cNvCxnSpPr>
            <a:stCxn id="538" idx="5"/>
            <a:endCxn id="537" idx="2"/>
          </p:cNvCxnSpPr>
          <p:nvPr/>
        </p:nvCxnSpPr>
        <p:spPr>
          <a:xfrm>
            <a:off x="3395520" y="4704840"/>
            <a:ext cx="401040" cy="210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6" name=""/>
          <p:cNvCxnSpPr>
            <a:stCxn id="537" idx="7"/>
            <a:endCxn id="536" idx="3"/>
          </p:cNvCxnSpPr>
          <p:nvPr/>
        </p:nvCxnSpPr>
        <p:spPr>
          <a:xfrm flipV="1">
            <a:off x="4005000" y="4628520"/>
            <a:ext cx="448200" cy="1911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7" name=""/>
          <p:cNvCxnSpPr>
            <a:stCxn id="538" idx="6"/>
            <a:endCxn id="536" idx="2"/>
          </p:cNvCxnSpPr>
          <p:nvPr/>
        </p:nvCxnSpPr>
        <p:spPr>
          <a:xfrm flipV="1">
            <a:off x="3443400" y="4533840"/>
            <a:ext cx="96264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8" name=""/>
          <p:cNvCxnSpPr>
            <a:stCxn id="535" idx="2"/>
            <a:endCxn id="538" idx="6"/>
          </p:cNvCxnSpPr>
          <p:nvPr/>
        </p:nvCxnSpPr>
        <p:spPr>
          <a:xfrm flipH="1">
            <a:off x="3442680" y="4000320"/>
            <a:ext cx="810360" cy="6102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49" name=""/>
          <p:cNvSpPr/>
          <p:nvPr/>
        </p:nvSpPr>
        <p:spPr>
          <a:xfrm>
            <a:off x="3581280" y="54864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5410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05520" y="48769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37" idx="3"/>
            <a:endCxn id="549" idx="0"/>
          </p:cNvCxnSpPr>
          <p:nvPr/>
        </p:nvCxnSpPr>
        <p:spPr>
          <a:xfrm flipH="1">
            <a:off x="3695400" y="5009760"/>
            <a:ext cx="148320" cy="462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6" name=""/>
          <p:cNvCxnSpPr>
            <a:stCxn id="537" idx="4"/>
            <a:endCxn id="550" idx="0"/>
          </p:cNvCxnSpPr>
          <p:nvPr/>
        </p:nvCxnSpPr>
        <p:spPr>
          <a:xfrm>
            <a:off x="3924360" y="5043600"/>
            <a:ext cx="76680" cy="50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7" name=""/>
          <p:cNvCxnSpPr>
            <a:stCxn id="537" idx="5"/>
            <a:endCxn id="551" idx="1"/>
          </p:cNvCxnSpPr>
          <p:nvPr/>
        </p:nvCxnSpPr>
        <p:spPr>
          <a:xfrm>
            <a:off x="4005360" y="5010120"/>
            <a:ext cx="21960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8" name=""/>
          <p:cNvCxnSpPr>
            <a:stCxn id="536" idx="5"/>
            <a:endCxn id="553" idx="2"/>
          </p:cNvCxnSpPr>
          <p:nvPr/>
        </p:nvCxnSpPr>
        <p:spPr>
          <a:xfrm>
            <a:off x="4614480" y="4628880"/>
            <a:ext cx="477000" cy="362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9" name=""/>
          <p:cNvCxnSpPr>
            <a:stCxn id="536" idx="6"/>
            <a:endCxn id="554" idx="2"/>
          </p:cNvCxnSpPr>
          <p:nvPr/>
        </p:nvCxnSpPr>
        <p:spPr>
          <a:xfrm>
            <a:off x="4662360" y="4533840"/>
            <a:ext cx="58140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60" name=""/>
          <p:cNvCxnSpPr>
            <a:stCxn id="536" idx="7"/>
            <a:endCxn id="552" idx="2"/>
          </p:cNvCxnSpPr>
          <p:nvPr/>
        </p:nvCxnSpPr>
        <p:spPr>
          <a:xfrm flipV="1">
            <a:off x="4614480" y="4304520"/>
            <a:ext cx="477000" cy="134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D2BC-BB9A-4624-9E02-782024931B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2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ybe there are no good cuts: ``jellyfish’’ shape [Tauro+’01], [Siganos+,’06], strange behavior of cuts [Chakrabarti+,’04], [Leskovec+,’08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57200" y="4038480"/>
            <a:ext cx="1447920" cy="1143000"/>
            <a:chOff x="457200" y="4038480"/>
            <a:chExt cx="1447920" cy="1143000"/>
          </a:xfrm>
        </p:grpSpPr>
        <p:sp>
          <p:nvSpPr>
            <p:cNvPr id="564" name=""/>
            <p:cNvSpPr/>
            <p:nvPr/>
          </p:nvSpPr>
          <p:spPr>
            <a:xfrm>
              <a:off x="685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2388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4648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4" idx="6"/>
              <a:endCxn id="565" idx="2"/>
            </p:cNvCxnSpPr>
            <p:nvPr/>
          </p:nvCxnSpPr>
          <p:spPr>
            <a:xfrm>
              <a:off x="928800" y="4152600"/>
              <a:ext cx="581400" cy="1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0" name=""/>
            <p:cNvCxnSpPr>
              <a:stCxn id="564" idx="3"/>
              <a:endCxn id="568" idx="7"/>
            </p:cNvCxnSpPr>
            <p:nvPr/>
          </p:nvCxnSpPr>
          <p:spPr>
            <a:xfrm flipH="1">
              <a:off x="651960" y="4247640"/>
              <a:ext cx="67680" cy="4201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1" name=""/>
            <p:cNvCxnSpPr>
              <a:stCxn id="564" idx="5"/>
              <a:endCxn id="567" idx="1"/>
            </p:cNvCxnSpPr>
            <p:nvPr/>
          </p:nvCxnSpPr>
          <p:spPr>
            <a:xfrm>
              <a:off x="880560" y="4247640"/>
              <a:ext cx="219960" cy="724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2" name=""/>
            <p:cNvCxnSpPr>
              <a:stCxn id="564" idx="6"/>
              <a:endCxn id="566" idx="2"/>
            </p:cNvCxnSpPr>
            <p:nvPr/>
          </p:nvCxnSpPr>
          <p:spPr>
            <a:xfrm>
              <a:off x="928440" y="4152960"/>
              <a:ext cx="73404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3" name=""/>
            <p:cNvCxnSpPr>
              <a:stCxn id="565" idx="4"/>
              <a:endCxn id="566" idx="0"/>
            </p:cNvCxnSpPr>
            <p:nvPr/>
          </p:nvCxnSpPr>
          <p:spPr>
            <a:xfrm>
              <a:off x="1638000" y="4281120"/>
              <a:ext cx="153000" cy="2768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4" name=""/>
            <p:cNvCxnSpPr>
              <a:stCxn id="565" idx="2"/>
              <a:endCxn id="567" idx="0"/>
            </p:cNvCxnSpPr>
            <p:nvPr/>
          </p:nvCxnSpPr>
          <p:spPr>
            <a:xfrm flipH="1">
              <a:off x="1180800" y="4152600"/>
              <a:ext cx="329040" cy="786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5" name=""/>
            <p:cNvCxnSpPr>
              <a:stCxn id="568" idx="5"/>
              <a:endCxn id="567" idx="2"/>
            </p:cNvCxnSpPr>
            <p:nvPr/>
          </p:nvCxnSpPr>
          <p:spPr>
            <a:xfrm>
              <a:off x="652320" y="4857840"/>
              <a:ext cx="401040" cy="210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6" name=""/>
            <p:cNvCxnSpPr>
              <a:stCxn id="567" idx="7"/>
              <a:endCxn id="566" idx="3"/>
            </p:cNvCxnSpPr>
            <p:nvPr/>
          </p:nvCxnSpPr>
          <p:spPr>
            <a:xfrm flipV="1">
              <a:off x="1261800" y="4780800"/>
              <a:ext cx="448200" cy="191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7" name=""/>
            <p:cNvCxnSpPr>
              <a:stCxn id="568" idx="6"/>
              <a:endCxn id="566" idx="2"/>
            </p:cNvCxnSpPr>
            <p:nvPr/>
          </p:nvCxnSpPr>
          <p:spPr>
            <a:xfrm flipV="1">
              <a:off x="700200" y="4685760"/>
              <a:ext cx="96264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8" name=""/>
            <p:cNvCxnSpPr>
              <a:stCxn id="565" idx="2"/>
              <a:endCxn id="568" idx="6"/>
            </p:cNvCxnSpPr>
            <p:nvPr/>
          </p:nvCxnSpPr>
          <p:spPr>
            <a:xfrm flipH="1">
              <a:off x="699480" y="4152600"/>
              <a:ext cx="810360" cy="61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579" name="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48006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84" name=""/>
          <p:cNvCxnSpPr>
            <a:stCxn id="579" idx="6"/>
            <a:endCxn id="580" idx="2"/>
          </p:cNvCxnSpPr>
          <p:nvPr/>
        </p:nvCxnSpPr>
        <p:spPr>
          <a:xfrm>
            <a:off x="3672000" y="4000320"/>
            <a:ext cx="581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5" name=""/>
          <p:cNvCxnSpPr>
            <a:stCxn id="579" idx="3"/>
            <a:endCxn id="583" idx="7"/>
          </p:cNvCxnSpPr>
          <p:nvPr/>
        </p:nvCxnSpPr>
        <p:spPr>
          <a:xfrm flipH="1">
            <a:off x="3395160" y="4095720"/>
            <a:ext cx="6768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6" name=""/>
          <p:cNvCxnSpPr>
            <a:stCxn id="579" idx="5"/>
            <a:endCxn id="582" idx="1"/>
          </p:cNvCxnSpPr>
          <p:nvPr/>
        </p:nvCxnSpPr>
        <p:spPr>
          <a:xfrm>
            <a:off x="3623760" y="4095360"/>
            <a:ext cx="219960" cy="724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7" name=""/>
          <p:cNvCxnSpPr>
            <a:stCxn id="579" idx="6"/>
            <a:endCxn id="581" idx="2"/>
          </p:cNvCxnSpPr>
          <p:nvPr/>
        </p:nvCxnSpPr>
        <p:spPr>
          <a:xfrm>
            <a:off x="3671640" y="4000320"/>
            <a:ext cx="734040" cy="5338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8" name=""/>
          <p:cNvCxnSpPr>
            <a:stCxn id="580" idx="4"/>
            <a:endCxn id="581" idx="0"/>
          </p:cNvCxnSpPr>
          <p:nvPr/>
        </p:nvCxnSpPr>
        <p:spPr>
          <a:xfrm>
            <a:off x="4381200" y="4128840"/>
            <a:ext cx="153000" cy="2768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9" name=""/>
          <p:cNvCxnSpPr>
            <a:stCxn id="580" idx="2"/>
            <a:endCxn id="582" idx="0"/>
          </p:cNvCxnSpPr>
          <p:nvPr/>
        </p:nvCxnSpPr>
        <p:spPr>
          <a:xfrm flipH="1">
            <a:off x="3924000" y="4000680"/>
            <a:ext cx="3290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0" name=""/>
          <p:cNvCxnSpPr>
            <a:stCxn id="583" idx="5"/>
            <a:endCxn id="582" idx="2"/>
          </p:cNvCxnSpPr>
          <p:nvPr/>
        </p:nvCxnSpPr>
        <p:spPr>
          <a:xfrm>
            <a:off x="3395520" y="4704840"/>
            <a:ext cx="401040" cy="210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1" name=""/>
          <p:cNvCxnSpPr>
            <a:stCxn id="582" idx="7"/>
            <a:endCxn id="581" idx="3"/>
          </p:cNvCxnSpPr>
          <p:nvPr/>
        </p:nvCxnSpPr>
        <p:spPr>
          <a:xfrm flipV="1">
            <a:off x="4005000" y="4628520"/>
            <a:ext cx="448200" cy="1911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2" name=""/>
          <p:cNvCxnSpPr>
            <a:stCxn id="583" idx="6"/>
            <a:endCxn id="581" idx="2"/>
          </p:cNvCxnSpPr>
          <p:nvPr/>
        </p:nvCxnSpPr>
        <p:spPr>
          <a:xfrm flipV="1">
            <a:off x="3443400" y="4533840"/>
            <a:ext cx="96264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3" name=""/>
          <p:cNvCxnSpPr>
            <a:stCxn id="580" idx="2"/>
            <a:endCxn id="583" idx="6"/>
          </p:cNvCxnSpPr>
          <p:nvPr/>
        </p:nvCxnSpPr>
        <p:spPr>
          <a:xfrm flipH="1">
            <a:off x="3442680" y="4000320"/>
            <a:ext cx="810360" cy="6102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3581280" y="54864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91120" y="5410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48769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582" idx="3"/>
            <a:endCxn id="594" idx="0"/>
          </p:cNvCxnSpPr>
          <p:nvPr/>
        </p:nvCxnSpPr>
        <p:spPr>
          <a:xfrm flipH="1">
            <a:off x="3695400" y="5009760"/>
            <a:ext cx="148320" cy="462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1" name=""/>
          <p:cNvCxnSpPr>
            <a:stCxn id="582" idx="4"/>
            <a:endCxn id="595" idx="0"/>
          </p:cNvCxnSpPr>
          <p:nvPr/>
        </p:nvCxnSpPr>
        <p:spPr>
          <a:xfrm>
            <a:off x="3924360" y="5043600"/>
            <a:ext cx="76680" cy="50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2" name=""/>
          <p:cNvCxnSpPr>
            <a:stCxn id="582" idx="5"/>
            <a:endCxn id="596" idx="1"/>
          </p:cNvCxnSpPr>
          <p:nvPr/>
        </p:nvCxnSpPr>
        <p:spPr>
          <a:xfrm>
            <a:off x="4005360" y="5010120"/>
            <a:ext cx="21960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3" name=""/>
          <p:cNvCxnSpPr>
            <a:stCxn id="581" idx="5"/>
            <a:endCxn id="598" idx="2"/>
          </p:cNvCxnSpPr>
          <p:nvPr/>
        </p:nvCxnSpPr>
        <p:spPr>
          <a:xfrm>
            <a:off x="4614480" y="4628880"/>
            <a:ext cx="477000" cy="362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4" name=""/>
          <p:cNvCxnSpPr>
            <a:stCxn id="581" idx="6"/>
            <a:endCxn id="599" idx="2"/>
          </p:cNvCxnSpPr>
          <p:nvPr/>
        </p:nvCxnSpPr>
        <p:spPr>
          <a:xfrm>
            <a:off x="4662360" y="4533840"/>
            <a:ext cx="58140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5" name=""/>
          <p:cNvCxnSpPr>
            <a:stCxn id="581" idx="7"/>
            <a:endCxn id="597" idx="2"/>
          </p:cNvCxnSpPr>
          <p:nvPr/>
        </p:nvCxnSpPr>
        <p:spPr>
          <a:xfrm flipV="1">
            <a:off x="4614480" y="4304520"/>
            <a:ext cx="477000" cy="134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777960" y="3552840"/>
            <a:ext cx="1203120" cy="1857240"/>
          </a:xfrm>
          <a:custGeom>
            <a:avLst/>
            <a:gdLst/>
            <a:ahLst/>
            <a:rect l="l" t="t" r="r" b="b"/>
            <a:pathLst>
              <a:path w="758" h="1170">
                <a:moveTo>
                  <a:pt x="6" y="2"/>
                </a:moveTo>
                <a:cubicBezTo>
                  <a:pt x="23" y="52"/>
                  <a:pt x="0" y="0"/>
                  <a:pt x="46" y="50"/>
                </a:cubicBezTo>
                <a:cubicBezTo>
                  <a:pt x="64" y="70"/>
                  <a:pt x="94" y="114"/>
                  <a:pt x="94" y="114"/>
                </a:cubicBezTo>
                <a:cubicBezTo>
                  <a:pt x="105" y="147"/>
                  <a:pt x="124" y="165"/>
                  <a:pt x="142" y="194"/>
                </a:cubicBezTo>
                <a:cubicBezTo>
                  <a:pt x="167" y="233"/>
                  <a:pt x="162" y="273"/>
                  <a:pt x="182" y="314"/>
                </a:cubicBezTo>
                <a:cubicBezTo>
                  <a:pt x="196" y="342"/>
                  <a:pt x="198" y="343"/>
                  <a:pt x="206" y="370"/>
                </a:cubicBezTo>
                <a:cubicBezTo>
                  <a:pt x="228" y="446"/>
                  <a:pt x="218" y="544"/>
                  <a:pt x="262" y="610"/>
                </a:cubicBezTo>
                <a:cubicBezTo>
                  <a:pt x="282" y="690"/>
                  <a:pt x="316" y="816"/>
                  <a:pt x="374" y="874"/>
                </a:cubicBezTo>
                <a:cubicBezTo>
                  <a:pt x="385" y="906"/>
                  <a:pt x="394" y="919"/>
                  <a:pt x="422" y="938"/>
                </a:cubicBezTo>
                <a:cubicBezTo>
                  <a:pt x="468" y="1007"/>
                  <a:pt x="545" y="1031"/>
                  <a:pt x="622" y="1050"/>
                </a:cubicBezTo>
                <a:cubicBezTo>
                  <a:pt x="686" y="1093"/>
                  <a:pt x="609" y="1037"/>
                  <a:pt x="662" y="1090"/>
                </a:cubicBezTo>
                <a:cubicBezTo>
                  <a:pt x="671" y="1099"/>
                  <a:pt x="685" y="1105"/>
                  <a:pt x="694" y="1114"/>
                </a:cubicBezTo>
                <a:lnTo>
                  <a:pt x="758" y="117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40080" y="5067360"/>
            <a:ext cx="1079640" cy="181080"/>
          </a:xfrm>
          <a:custGeom>
            <a:avLst/>
            <a:gdLst/>
            <a:ahLst/>
            <a:rect l="l" t="t" r="r" b="b"/>
            <a:pathLst>
              <a:path w="680" h="114">
                <a:moveTo>
                  <a:pt x="0" y="56"/>
                </a:moveTo>
                <a:cubicBezTo>
                  <a:pt x="85" y="73"/>
                  <a:pt x="161" y="82"/>
                  <a:pt x="248" y="88"/>
                </a:cubicBezTo>
                <a:cubicBezTo>
                  <a:pt x="395" y="84"/>
                  <a:pt x="566" y="114"/>
                  <a:pt x="680" y="0"/>
                </a:cubicBez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50840" y="51181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09880" y="49528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13AF-E536-4F51-8613-1812F527E4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Jellyfish model [Tauro+]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1752480"/>
            <a:ext cx="160020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1676520"/>
            <a:ext cx="2743200" cy="9144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1600200"/>
            <a:ext cx="4267080" cy="1447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343400"/>
            <a:ext cx="152640" cy="152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3809880"/>
            <a:ext cx="152640" cy="152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1523880"/>
            <a:ext cx="5334120" cy="18288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267080" y="2209680"/>
            <a:ext cx="152640" cy="1524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724280" y="2209680"/>
            <a:ext cx="7632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29200" y="2209680"/>
            <a:ext cx="22860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44840" y="19940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505320" y="2514600"/>
            <a:ext cx="38088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200400" y="2514600"/>
            <a:ext cx="457200" cy="17524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971800" y="2438280"/>
            <a:ext cx="53352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3733920"/>
            <a:ext cx="152640" cy="15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2133720"/>
            <a:ext cx="533520" cy="1523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060880"/>
            <a:ext cx="9144000" cy="7038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Simple Conceptual Model for the Internet Topolog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L. Tauro, C. Palmer, G. Siganos, M. Faloutsos, Global Internet, November 25-29, 200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23000"/>
            <a:ext cx="9144000" cy="1008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ellyfish: A Conceptual Model for the AS Internet Topolog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G. Siganos, Sudhir L Tauro, M. Faloutsos, J. of Communications and Networks, Vol. 8, No. 3, pp 339-350, Sept. 2006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7D7F-76E1-430D-B249-CB50CE9FABE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trange behavior of min cut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gative dimensionality’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589640"/>
            <a:ext cx="9144000" cy="1099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etMine: New Mining Tools for Larg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by D. Chakrabarti,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. Zhan, D. Blandford, C. Faloutsos and G. Blelloch, in the SDM 2004 Workshop on Link Analysis, Counter-terrorism and Privac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5732640"/>
            <a:ext cx="9144000" cy="109944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Statistical Properties of Community Structure in Large Social and Information Networks, J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Leskovec, K. Lang, A. Dasgupta, M. Mahoney. </a:t>
            </a:r>
            <a:br>
              <a:rPr sz="2200"/>
            </a:b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WW 2008.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2BD1-30A3-4F59-8913-F462600B7A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288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810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954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716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666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51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623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195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716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288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954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0666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2860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810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479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051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051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9051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623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352680" y="39466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cut size = sqrt(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A9DA-FB4C-43AE-92A0-542E00E6E5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disjoint)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1148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5720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87692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2" idx="1"/>
            <a:endCxn id="192" idx="1"/>
          </p:cNvCxnSpPr>
          <p:nvPr/>
        </p:nvCxnSpPr>
        <p:spPr>
          <a:xfrm>
            <a:off x="685440" y="3771720"/>
            <a:ext cx="108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2" name=""/>
          <p:cNvCxnSpPr>
            <a:stCxn id="194" idx="7"/>
            <a:endCxn id="198" idx="3"/>
          </p:cNvCxnSpPr>
          <p:nvPr/>
        </p:nvCxnSpPr>
        <p:spPr>
          <a:xfrm flipV="1">
            <a:off x="3025440" y="3954240"/>
            <a:ext cx="1976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3" name=""/>
          <p:cNvCxnSpPr>
            <a:stCxn id="194" idx="6"/>
            <a:endCxn id="200" idx="2"/>
          </p:cNvCxnSpPr>
          <p:nvPr/>
        </p:nvCxnSpPr>
        <p:spPr>
          <a:xfrm>
            <a:off x="3062160" y="4266720"/>
            <a:ext cx="734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8" idx="5"/>
            <a:endCxn id="200" idx="1"/>
          </p:cNvCxnSpPr>
          <p:nvPr/>
        </p:nvCxnSpPr>
        <p:spPr>
          <a:xfrm>
            <a:off x="3330360" y="3954240"/>
            <a:ext cx="5018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endCxn id="199" idx="0"/>
          </p:cNvCxnSpPr>
          <p:nvPr/>
        </p:nvCxnSpPr>
        <p:spPr>
          <a:xfrm>
            <a:off x="3885840" y="4343400"/>
            <a:ext cx="1080" cy="443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96" idx="6"/>
            <a:endCxn id="194" idx="2"/>
          </p:cNvCxnSpPr>
          <p:nvPr/>
        </p:nvCxnSpPr>
        <p:spPr>
          <a:xfrm flipV="1">
            <a:off x="2224080" y="4266360"/>
            <a:ext cx="658080" cy="3819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93" idx="5"/>
            <a:endCxn id="196" idx="0"/>
          </p:cNvCxnSpPr>
          <p:nvPr/>
        </p:nvCxnSpPr>
        <p:spPr>
          <a:xfrm>
            <a:off x="1806120" y="3801600"/>
            <a:ext cx="327960" cy="756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8" name=""/>
          <p:cNvCxnSpPr>
            <a:stCxn id="193" idx="3"/>
            <a:endCxn id="195" idx="7"/>
          </p:cNvCxnSpPr>
          <p:nvPr/>
        </p:nvCxnSpPr>
        <p:spPr>
          <a:xfrm flipH="1">
            <a:off x="1348920" y="3801600"/>
            <a:ext cx="349920" cy="321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9" name=""/>
          <p:cNvCxnSpPr>
            <a:stCxn id="196" idx="2"/>
            <a:endCxn id="197" idx="6"/>
          </p:cNvCxnSpPr>
          <p:nvPr/>
        </p:nvCxnSpPr>
        <p:spPr>
          <a:xfrm flipH="1">
            <a:off x="1537920" y="4648320"/>
            <a:ext cx="505440" cy="305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10" name=""/>
          <p:cNvCxnSpPr>
            <a:stCxn id="197" idx="0"/>
            <a:endCxn id="195" idx="4"/>
          </p:cNvCxnSpPr>
          <p:nvPr/>
        </p:nvCxnSpPr>
        <p:spPr>
          <a:xfrm flipH="1" flipV="1">
            <a:off x="1294920" y="4281480"/>
            <a:ext cx="153360" cy="5814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294E-773D-41EF-898D-1CA401EB06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238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43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238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382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479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195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8954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666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666880"/>
            <a:ext cx="0" cy="106704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600200" y="2286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min-c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33720" y="4191120"/>
            <a:ext cx="0" cy="106668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39625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86600" y="38862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36576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553080" y="34290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248520" y="3352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3124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867280" y="29718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2412-BE42-41A9-8E11-0DC166F51F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810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954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0666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288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743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238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382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954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4479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195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195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8288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382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4382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9051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623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479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623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2666880"/>
            <a:ext cx="0" cy="106704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00200" y="2286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min-c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133720" y="4191120"/>
            <a:ext cx="0" cy="106668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39625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086600" y="38862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553080" y="36576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34290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48520" y="3352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3124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67280" y="29718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5000" y="3048120"/>
            <a:ext cx="2209680" cy="15238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3048120"/>
            <a:ext cx="16765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= -0.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876920" y="5257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d-dimensional grid, the slope is -1/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B4F8-1E3B-415B-A1F0-8076980757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600" y="349092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371600" y="166212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19520" y="36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1295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505320" y="30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272880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048120" y="26528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4242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14600" y="21956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21193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752480" y="18907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828800" y="17384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676520" y="1814400"/>
            <a:ext cx="2209680" cy="152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1814400"/>
            <a:ext cx="167616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43200" y="18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= -1/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38080" y="402444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-dimensional gri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the slop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/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3473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715000" y="1644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162920" y="3625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12193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29600" y="21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848720" y="22860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7480" y="21337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010280" y="2209680"/>
            <a:ext cx="15264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934320" y="21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77120" y="2209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19920" y="2209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095880" y="20574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19920" y="2286000"/>
            <a:ext cx="2438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4006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andom grap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the slop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3F4-FB32-4554-94C1-8BE723C7584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does it look like for a real-world graph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499752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200400" y="316872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5149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133720" y="2743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3505320"/>
            <a:ext cx="228600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52680" y="3657600"/>
            <a:ext cx="2133720" cy="3808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3809880"/>
            <a:ext cx="1295640" cy="10670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72200" y="3352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5BEF-4BDB-4F8D-9160-1ADAE3C2E4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set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gle Web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916,428 nodes and 5,105,039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ucent Router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Undirected graph of network routers from </a:t>
            </a: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isi.edu/scan/mercator/maps.htm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; 112,969 nodes and 181,639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r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bsite Clickstream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222,704 nodes and 952,580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5732640"/>
            <a:ext cx="9144000" cy="1099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etMine: New Mining Tools for Larg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by D. Chakrabarti,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. Zhan, D. Blandford, C. Faloutsos and G. Blelloch, in the SDM 2004 Workshop on Link Analysis, Counter-terrorism and Privac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AF9E-18E0-4F27-A54F-19A7FCE68A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d the METIS algorithm [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Karypis, Kumar, 1995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4419720" cy="30942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438280" y="518148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-501120" y="332064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410080" y="2666880"/>
            <a:ext cx="3429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gle Web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along the y-axis are avera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observe a “lip” for larg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of -0.4, corresponds to a 2.5-dimensional grid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371600" y="2438280"/>
            <a:ext cx="2666880" cy="22100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676520" y="2666880"/>
            <a:ext cx="144756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62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4038480" y="4343400"/>
            <a:ext cx="76212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72EE-42F2-480B-A8C3-F129576974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ame results for other graphs too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962520" cy="27734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114800" cy="287964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1981080" y="495288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019920" y="50292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-806040" y="332064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16200000">
            <a:off x="3308400" y="339696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cent Router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stream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6680" y="2438280"/>
            <a:ext cx="2286000" cy="20574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371600" y="2666880"/>
            <a:ext cx="144792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90512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5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181480" y="2514600"/>
            <a:ext cx="1524240" cy="2133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34120" y="2743200"/>
            <a:ext cx="144756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6386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4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276720" y="4190760"/>
            <a:ext cx="1218960" cy="609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010280" y="3809520"/>
            <a:ext cx="762120" cy="838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38098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890-763D-453C-97F2-78BBE838FE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 –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41560" y="1450800"/>
            <a:ext cx="124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ETI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018560" y="2025720"/>
            <a:ext cx="20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774840" y="2666880"/>
            <a:ext cx="23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247440" y="3276720"/>
            <a:ext cx="259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jellyfish’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aybe, there ar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no good cu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D145-15D8-4D52-B75B-8A6A6356CF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8080" y="3429000"/>
            <a:ext cx="1600200" cy="1981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200400"/>
            <a:ext cx="1676520" cy="2057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disjoint)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1148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5720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87692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4" idx="1"/>
            <a:endCxn id="214" idx="1"/>
          </p:cNvCxnSpPr>
          <p:nvPr/>
        </p:nvCxnSpPr>
        <p:spPr>
          <a:xfrm>
            <a:off x="685440" y="3771720"/>
            <a:ext cx="108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4" name=""/>
          <p:cNvCxnSpPr>
            <a:stCxn id="216" idx="7"/>
            <a:endCxn id="220" idx="3"/>
          </p:cNvCxnSpPr>
          <p:nvPr/>
        </p:nvCxnSpPr>
        <p:spPr>
          <a:xfrm flipV="1">
            <a:off x="3025440" y="3954240"/>
            <a:ext cx="1976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5" name=""/>
          <p:cNvCxnSpPr>
            <a:stCxn id="216" idx="6"/>
            <a:endCxn id="222" idx="2"/>
          </p:cNvCxnSpPr>
          <p:nvPr/>
        </p:nvCxnSpPr>
        <p:spPr>
          <a:xfrm>
            <a:off x="3062160" y="4266720"/>
            <a:ext cx="734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0" idx="5"/>
            <a:endCxn id="222" idx="1"/>
          </p:cNvCxnSpPr>
          <p:nvPr/>
        </p:nvCxnSpPr>
        <p:spPr>
          <a:xfrm>
            <a:off x="3330360" y="3954240"/>
            <a:ext cx="5018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7" name=""/>
          <p:cNvCxnSpPr>
            <a:endCxn id="221" idx="0"/>
          </p:cNvCxnSpPr>
          <p:nvPr/>
        </p:nvCxnSpPr>
        <p:spPr>
          <a:xfrm>
            <a:off x="3885840" y="4343400"/>
            <a:ext cx="1080" cy="443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8" name=""/>
          <p:cNvCxnSpPr>
            <a:stCxn id="218" idx="6"/>
            <a:endCxn id="216" idx="2"/>
          </p:cNvCxnSpPr>
          <p:nvPr/>
        </p:nvCxnSpPr>
        <p:spPr>
          <a:xfrm flipV="1">
            <a:off x="2224080" y="4266360"/>
            <a:ext cx="658080" cy="381960"/>
          </a:xfrm>
          <a:prstGeom prst="straightConnector1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</a:ln>
        </p:spPr>
      </p:cxnSp>
      <p:cxnSp>
        <p:nvCxnSpPr>
          <p:cNvPr id="229" name=""/>
          <p:cNvCxnSpPr>
            <a:stCxn id="215" idx="5"/>
            <a:endCxn id="218" idx="0"/>
          </p:cNvCxnSpPr>
          <p:nvPr/>
        </p:nvCxnSpPr>
        <p:spPr>
          <a:xfrm>
            <a:off x="1806120" y="3801600"/>
            <a:ext cx="327960" cy="756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0" name=""/>
          <p:cNvCxnSpPr>
            <a:stCxn id="215" idx="3"/>
            <a:endCxn id="217" idx="7"/>
          </p:cNvCxnSpPr>
          <p:nvPr/>
        </p:nvCxnSpPr>
        <p:spPr>
          <a:xfrm flipH="1">
            <a:off x="1348920" y="3801600"/>
            <a:ext cx="349920" cy="321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1" name=""/>
          <p:cNvCxnSpPr>
            <a:stCxn id="218" idx="2"/>
            <a:endCxn id="219" idx="6"/>
          </p:cNvCxnSpPr>
          <p:nvPr/>
        </p:nvCxnSpPr>
        <p:spPr>
          <a:xfrm flipH="1">
            <a:off x="1537920" y="4648320"/>
            <a:ext cx="505440" cy="305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2" name=""/>
          <p:cNvCxnSpPr>
            <a:stCxn id="219" idx="0"/>
            <a:endCxn id="217" idx="4"/>
          </p:cNvCxnSpPr>
          <p:nvPr/>
        </p:nvCxnSpPr>
        <p:spPr>
          <a:xfrm flipH="1" flipV="1">
            <a:off x="1294920" y="4281480"/>
            <a:ext cx="153360" cy="5814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758840" y="35244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ACA-683C-4786-92F9-19FDB4413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 #1: METI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guably, the best algorith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pen source, 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cs.umn.edu/~met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*many* related papers, at same ur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in idea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arsen the graph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tition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-coars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140360"/>
            <a:ext cx="623880" cy="48240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8520" y="4165560"/>
            <a:ext cx="623880" cy="48276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4191120"/>
            <a:ext cx="152640" cy="380880"/>
          </a:xfrm>
          <a:custGeom>
            <a:avLst/>
            <a:gdLst/>
            <a:ahLst/>
            <a:rect l="l" t="t" r="r" b="b"/>
            <a:pathLst>
              <a:path w="72" h="240">
                <a:moveTo>
                  <a:pt x="48" y="240"/>
                </a:moveTo>
                <a:cubicBezTo>
                  <a:pt x="16" y="229"/>
                  <a:pt x="10" y="215"/>
                  <a:pt x="0" y="184"/>
                </a:cubicBezTo>
                <a:cubicBezTo>
                  <a:pt x="2" y="173"/>
                  <a:pt x="8" y="134"/>
                  <a:pt x="16" y="120"/>
                </a:cubicBezTo>
                <a:cubicBezTo>
                  <a:pt x="42" y="73"/>
                  <a:pt x="72" y="54"/>
                  <a:pt x="72" y="0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10080" y="5102280"/>
            <a:ext cx="2133360" cy="383760"/>
            <a:chOff x="5410080" y="5102280"/>
            <a:chExt cx="2133360" cy="383760"/>
          </a:xfrm>
        </p:grpSpPr>
        <p:sp>
          <p:nvSpPr>
            <p:cNvPr id="240" name=""/>
            <p:cNvSpPr/>
            <p:nvPr/>
          </p:nvSpPr>
          <p:spPr>
            <a:xfrm>
              <a:off x="5410080" y="5102280"/>
              <a:ext cx="471960" cy="364680"/>
            </a:xfrm>
            <a:custGeom>
              <a:avLst/>
              <a:gdLst/>
              <a:ahLst/>
              <a:rect l="l" t="t" r="r" b="b"/>
              <a:pathLst>
                <a:path w="393" h="304">
                  <a:moveTo>
                    <a:pt x="208" y="0"/>
                  </a:moveTo>
                  <a:cubicBezTo>
                    <a:pt x="143" y="11"/>
                    <a:pt x="133" y="29"/>
                    <a:pt x="88" y="64"/>
                  </a:cubicBezTo>
                  <a:cubicBezTo>
                    <a:pt x="73" y="76"/>
                    <a:pt x="40" y="96"/>
                    <a:pt x="40" y="96"/>
                  </a:cubicBezTo>
                  <a:cubicBezTo>
                    <a:pt x="0" y="156"/>
                    <a:pt x="1" y="262"/>
                    <a:pt x="64" y="304"/>
                  </a:cubicBezTo>
                  <a:cubicBezTo>
                    <a:pt x="174" y="282"/>
                    <a:pt x="188" y="278"/>
                    <a:pt x="328" y="272"/>
                  </a:cubicBezTo>
                  <a:cubicBezTo>
                    <a:pt x="366" y="247"/>
                    <a:pt x="349" y="265"/>
                    <a:pt x="368" y="208"/>
                  </a:cubicBezTo>
                  <a:cubicBezTo>
                    <a:pt x="373" y="192"/>
                    <a:pt x="384" y="160"/>
                    <a:pt x="384" y="160"/>
                  </a:cubicBezTo>
                  <a:cubicBezTo>
                    <a:pt x="381" y="120"/>
                    <a:pt x="393" y="72"/>
                    <a:pt x="368" y="40"/>
                  </a:cubicBezTo>
                  <a:cubicBezTo>
                    <a:pt x="338" y="3"/>
                    <a:pt x="246" y="0"/>
                    <a:pt x="208" y="0"/>
                  </a:cubicBez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71480" y="5121000"/>
              <a:ext cx="471960" cy="365040"/>
            </a:xfrm>
            <a:custGeom>
              <a:avLst/>
              <a:gdLst/>
              <a:ahLst/>
              <a:rect l="l" t="t" r="r" b="b"/>
              <a:pathLst>
                <a:path w="393" h="304">
                  <a:moveTo>
                    <a:pt x="208" y="0"/>
                  </a:moveTo>
                  <a:cubicBezTo>
                    <a:pt x="143" y="11"/>
                    <a:pt x="133" y="29"/>
                    <a:pt x="88" y="64"/>
                  </a:cubicBezTo>
                  <a:cubicBezTo>
                    <a:pt x="73" y="76"/>
                    <a:pt x="40" y="96"/>
                    <a:pt x="40" y="96"/>
                  </a:cubicBezTo>
                  <a:cubicBezTo>
                    <a:pt x="0" y="156"/>
                    <a:pt x="1" y="262"/>
                    <a:pt x="64" y="304"/>
                  </a:cubicBezTo>
                  <a:cubicBezTo>
                    <a:pt x="174" y="282"/>
                    <a:pt x="188" y="278"/>
                    <a:pt x="328" y="272"/>
                  </a:cubicBezTo>
                  <a:cubicBezTo>
                    <a:pt x="366" y="247"/>
                    <a:pt x="349" y="265"/>
                    <a:pt x="368" y="208"/>
                  </a:cubicBezTo>
                  <a:cubicBezTo>
                    <a:pt x="373" y="192"/>
                    <a:pt x="384" y="160"/>
                    <a:pt x="384" y="160"/>
                  </a:cubicBezTo>
                  <a:cubicBezTo>
                    <a:pt x="381" y="120"/>
                    <a:pt x="393" y="72"/>
                    <a:pt x="368" y="40"/>
                  </a:cubicBezTo>
                  <a:cubicBezTo>
                    <a:pt x="338" y="3"/>
                    <a:pt x="246" y="0"/>
                    <a:pt x="208" y="0"/>
                  </a:cubicBez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3040" y="5140440"/>
              <a:ext cx="115200" cy="28800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48" y="240"/>
                  </a:moveTo>
                  <a:cubicBezTo>
                    <a:pt x="16" y="229"/>
                    <a:pt x="10" y="215"/>
                    <a:pt x="0" y="184"/>
                  </a:cubicBezTo>
                  <a:cubicBezTo>
                    <a:pt x="2" y="173"/>
                    <a:pt x="8" y="134"/>
                    <a:pt x="16" y="120"/>
                  </a:cubicBezTo>
                  <a:cubicBezTo>
                    <a:pt x="42" y="73"/>
                    <a:pt x="72" y="54"/>
                    <a:pt x="72" y="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351480" y="5973840"/>
            <a:ext cx="354240" cy="27468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32560" y="5987880"/>
            <a:ext cx="87480" cy="217800"/>
          </a:xfrm>
          <a:custGeom>
            <a:avLst/>
            <a:gdLst/>
            <a:ahLst/>
            <a:rect l="l" t="t" r="r" b="b"/>
            <a:pathLst>
              <a:path w="72" h="240">
                <a:moveTo>
                  <a:pt x="48" y="240"/>
                </a:moveTo>
                <a:cubicBezTo>
                  <a:pt x="16" y="229"/>
                  <a:pt x="10" y="215"/>
                  <a:pt x="0" y="184"/>
                </a:cubicBezTo>
                <a:cubicBezTo>
                  <a:pt x="2" y="173"/>
                  <a:pt x="8" y="134"/>
                  <a:pt x="16" y="120"/>
                </a:cubicBezTo>
                <a:cubicBezTo>
                  <a:pt x="42" y="73"/>
                  <a:pt x="72" y="54"/>
                  <a:pt x="72" y="0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724280"/>
            <a:ext cx="15264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562720"/>
            <a:ext cx="38124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10280" y="5562720"/>
            <a:ext cx="22860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391520" y="4723920"/>
            <a:ext cx="75960" cy="228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0AE3-9FC2-4212-8D7F-4FF55FD0F0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 #1: METI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. Karypis and V. Kumar.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METIS 4.0: Unstructured graph partitioning and sparse matrix ordering syst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TR, Dept. of CS,  Univ. of Minnesota, 1998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&lt;and many extensions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3564000" y="4038480"/>
            <a:ext cx="127296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3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260360" cy="17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13C7-7E65-408A-B38B-17FB665CE5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olu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problem: hard clustering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partition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ider the 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mallest eigenvector of the (normalized) Laplacia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details in ‘Task 7’,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654C-A164-49E6-9BEB-29A1AE86E7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s #3, …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ny more idea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ustering on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square of adjacency matrix) [Zhou, Woodruff, PODS’04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nimum cut / maximum flow [Flake+, KDD’00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72C-73BA-47A9-9B58-E25A021511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27:25Z</dcterms:modified>
  <cp:revision>224</cp:revision>
  <dc:subject>community discovery</dc:subject>
  <dc:title>KDD'09</dc:title>
</cp:coreProperties>
</file>