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6.wmf" ContentType="image/x-wmf"/>
  <Override PartName="/ppt/media/image14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69FE-59DB-4E9D-906E-E21B9080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DA1B-035F-4365-9947-9A01A73D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44B2-E352-4705-8FF0-154A7F92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5A30-6373-4D43-84AA-E9B6CF89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4798-1BBC-430D-B286-75CDE8E4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0ABE-C489-4B88-8573-DB9D462A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2A5A-36D2-4172-A513-A4D24A51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4513-E44A-41C2-A6E1-98C32BF7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C1C4-6FDC-4147-AE1F-6E74518C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DFE-2451-4A20-B0C7-D1DB9FDE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BD4D-0555-4C0A-A368-12EE87BA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29CD-CD7D-477F-AD25-0560CC15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9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901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901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901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5-</a:t>
            </a:r>
            <a:fld id="{9908E55B-35C1-4BC4-879A-BE25704CCFEB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5680" y="1784520"/>
            <a:ext cx="8570880" cy="18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arge Graph Mining: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Power Tools and a Practitioner’s guid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9520" y="3871800"/>
            <a:ext cx="73962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Task 4: Center-piece Subgraph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Times New Roman"/>
              </a:rPr>
              <a:t>Faloutsos, Miller and Tsourakaki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CMU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C0B7-2BE1-4DEF-8182-1E8AEAE1AE5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K_SoftAnd: Combine Score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41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eneralization – SoftAND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e want nodes close to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&lt;Q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query node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How to do that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87" name="Rectangle 3"/>
          <p:cNvGraphicFramePr/>
          <p:nvPr/>
        </p:nvGraphicFramePr>
        <p:xfrm>
          <a:off x="4849920" y="1676520"/>
          <a:ext cx="3913200" cy="37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9920" y="1676520"/>
                    <a:ext cx="3913200" cy="37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EBB0-A5CC-4AE5-B64F-63B1B48A7C7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K_SoftAnd: Combine Score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41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eneralization – softAND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e want nodes close to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&lt;Q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query node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How to do that?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: Prob(at leas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out-of-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will meet each other at j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1" name="Rectangle 3"/>
          <p:cNvGraphicFramePr/>
          <p:nvPr/>
        </p:nvGraphicFramePr>
        <p:xfrm>
          <a:off x="4849920" y="1676520"/>
          <a:ext cx="3913200" cy="37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9920" y="1676520"/>
                    <a:ext cx="3913200" cy="37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7C5A-E850-4684-8653-C8AE143EE6D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  <a:ea typeface="宋体"/>
              </a:rPr>
              <a:t>AND query vs.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K_SoftAnd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  <a:ea typeface="宋体"/>
              </a:rPr>
              <a:t> query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5433480"/>
            <a:ext cx="381312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 Quer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10160" y="5410080"/>
            <a:ext cx="3924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2_SoftAnd Quer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1905120"/>
            <a:ext cx="392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1300" spc="-1" strike="noStrike">
                <a:solidFill>
                  <a:srgbClr val="000066"/>
                </a:solidFill>
                <a:latin typeface="Times New Roman"/>
              </a:rPr>
              <a:t>x 1e-4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7" name="Rectangle 3"/>
          <p:cNvGraphicFramePr/>
          <p:nvPr/>
        </p:nvGraphicFramePr>
        <p:xfrm>
          <a:off x="1117440" y="1730520"/>
          <a:ext cx="323712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7440" y="1730520"/>
                    <a:ext cx="323712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286000" y="3505320"/>
            <a:ext cx="838080" cy="76176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0" name="Rectangle 3"/>
          <p:cNvGraphicFramePr/>
          <p:nvPr/>
        </p:nvGraphicFramePr>
        <p:xfrm>
          <a:off x="5027760" y="1641600"/>
          <a:ext cx="3246120" cy="364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7760" y="1641600"/>
                    <a:ext cx="3246120" cy="36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5181480" y="2362320"/>
            <a:ext cx="1067040" cy="17524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362320"/>
            <a:ext cx="990720" cy="17524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4648320"/>
            <a:ext cx="2057400" cy="8380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34B3-5553-474A-A81C-E0FD48CFB54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Rectangle 3"/>
          <p:cNvGraphicFramePr/>
          <p:nvPr/>
        </p:nvGraphicFramePr>
        <p:xfrm>
          <a:off x="2557440" y="1447920"/>
          <a:ext cx="414504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7440" y="1447920"/>
                    <a:ext cx="414504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1_SoftAnd query = OR query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2590920"/>
            <a:ext cx="3048120" cy="99036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334400">
            <a:off x="5110200" y="3506760"/>
            <a:ext cx="1139760" cy="297180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3244800">
            <a:off x="1875960" y="4370040"/>
            <a:ext cx="3200400" cy="12574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BC91-9DE4-49D6-93CC-F59A887479F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Problem definition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olution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Result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89548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D96F-47ED-4E8E-BB70-6F9F866B1DC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6248520"/>
            <a:ext cx="80010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  <a:ea typeface="宋体"/>
              </a:rPr>
              <a:t>Case Study: AND query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16" name="Rectangle 3"/>
          <p:cNvGraphicFramePr/>
          <p:nvPr/>
        </p:nvGraphicFramePr>
        <p:xfrm>
          <a:off x="338040" y="1371600"/>
          <a:ext cx="7585200" cy="532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1371600"/>
                    <a:ext cx="7585200" cy="53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03AB-7B15-411A-B703-C3722F7651E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6248520"/>
            <a:ext cx="80010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  <a:ea typeface="宋体"/>
              </a:rPr>
              <a:t>Case Study: AND query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20" name="Rectangle 3"/>
          <p:cNvGraphicFramePr/>
          <p:nvPr/>
        </p:nvGraphicFramePr>
        <p:xfrm>
          <a:off x="338040" y="1371600"/>
          <a:ext cx="7585200" cy="532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1371600"/>
                    <a:ext cx="7585200" cy="53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3"/>
          <a:srcRect l="0" t="0" r="0" b="24000"/>
          <a:stretch/>
        </p:blipFill>
        <p:spPr>
          <a:xfrm>
            <a:off x="4800600" y="4952880"/>
            <a:ext cx="1141560" cy="127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733920" y="2133720"/>
            <a:ext cx="912600" cy="1279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rcRect l="30736" t="0" r="30736" b="0"/>
          <a:stretch/>
        </p:blipFill>
        <p:spPr>
          <a:xfrm>
            <a:off x="4952880" y="3200400"/>
            <a:ext cx="1252800" cy="127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7CE-6100-4727-BC89-54297EEBFB9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Rectangle 3"/>
          <p:cNvGraphicFramePr/>
          <p:nvPr/>
        </p:nvGraphicFramePr>
        <p:xfrm>
          <a:off x="304920" y="0"/>
          <a:ext cx="8016840" cy="62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01684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457200" y="6324480"/>
            <a:ext cx="8229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2_SoftAnd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 quer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048120"/>
            <a:ext cx="8915400" cy="32004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86600" y="3124080"/>
            <a:ext cx="1752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Times New Roman"/>
              </a:rPr>
              <a:t>Statistic</a:t>
            </a: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8915400" cy="29718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62920" y="0"/>
            <a:ext cx="1752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9900"/>
                </a:solidFill>
                <a:latin typeface="Times New Roman"/>
              </a:rPr>
              <a:t>database</a:t>
            </a: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1367-8DC0-4F7D-A77C-B264CF0DD2D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onclusion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Proximity (e.g., w/ RWR) helps answer ‘AND’ and ‘k_softAnd’ querie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3C7A-FF3D-4CA2-9A09-AB63E9E5D9E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troduction – 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1: Node importance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3: Recommend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4: Connection sub-graph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5: Mining graphs over tim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2767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ABF2-1008-46DA-B4D5-C780226E590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Problem definition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olution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Result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600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943600"/>
            <a:ext cx="9144000" cy="885960"/>
          </a:xfrm>
          <a:prstGeom prst="rect">
            <a:avLst/>
          </a:prstGeom>
          <a:solidFill>
            <a:srgbClr val="ffff99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H. Tong &amp; C. Faloutsos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Center-piece subgraphs: problem definition and fast solutions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. In KDD, 404-413, 2006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8885-8162-48D3-9074-2DD7812ED8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e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nter-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iece 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ubgraph(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eps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4572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Given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Q query nod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Find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enter-piece (       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put of </a:t>
            </a:r>
            <a:r>
              <a:rPr b="0" lang="en-US" sz="2800" spc="-1" strike="noStrike">
                <a:solidFill>
                  <a:srgbClr val="f60000"/>
                </a:solidFill>
                <a:latin typeface="Times New Roman"/>
              </a:rPr>
              <a:t>Cep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Q Query nod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udget 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k softAnd numb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pp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ocial Networ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aw Inforcem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Gene Networ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5" name="Rectangle 3"/>
          <p:cNvGraphicFramePr/>
          <p:nvPr/>
        </p:nvGraphicFramePr>
        <p:xfrm>
          <a:off x="5530680" y="1295280"/>
          <a:ext cx="2271960" cy="21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30680" y="1295280"/>
                    <a:ext cx="227196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Rectangle 3"/>
          <p:cNvGraphicFramePr/>
          <p:nvPr/>
        </p:nvGraphicFramePr>
        <p:xfrm>
          <a:off x="5635800" y="3849840"/>
          <a:ext cx="1830240" cy="22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5800" y="3849840"/>
                    <a:ext cx="1830240" cy="22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638680" y="3838680"/>
          <a:ext cx="2038320" cy="21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3838680"/>
                    <a:ext cx="203832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886200" y="1981080"/>
          <a:ext cx="533520" cy="36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86200" y="1981080"/>
                    <a:ext cx="5335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2725-476D-40A3-A864-FF8B87DAC1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Challenges in Cep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24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Q1: How to measure importance?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marL="2332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marL="2332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marL="233280" indent="-2332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(Q2: How to extract connection subgraph?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233280" indent="-2332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Q3: How to do it efficiently?)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233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29B6-3DD0-4B6E-8DE3-D97621A524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Challenges in Cep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24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Q1: How to measure importance?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marL="291600" indent="-291600"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A: “proximity” – but how to combine scores?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(Q2: How to extract connection subgraph?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Q3: How to do it efficiently?)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0DEA-D96B-44FF-9CED-AE250489F0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AND: Combine Score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41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How to combine scores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9" name="Rectangle 3"/>
          <p:cNvGraphicFramePr/>
          <p:nvPr/>
        </p:nvGraphicFramePr>
        <p:xfrm>
          <a:off x="4849920" y="1676520"/>
          <a:ext cx="3913200" cy="37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9920" y="1676520"/>
                    <a:ext cx="3913200" cy="37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79D0-002E-428B-A07D-A39C75E6B0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AND: Combine Score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41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How to combine scores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: Multipl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prob. 3 random particles coincide on nod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3" name="Rectangle 3"/>
          <p:cNvGraphicFramePr/>
          <p:nvPr/>
        </p:nvGraphicFramePr>
        <p:xfrm>
          <a:off x="4849920" y="1676520"/>
          <a:ext cx="3913200" cy="37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9920" y="1676520"/>
                    <a:ext cx="3913200" cy="37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F0BB-4080-46A2-948B-64CF01BC40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K_SoftAnd: Relaxation of AND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54097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What if AND query</a:t>
            </a:r>
            <a:r>
              <a:rPr b="0" lang="en-US" sz="4400" spc="-1" strike="noStrike">
                <a:solidFill>
                  <a:srgbClr val="f6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60000"/>
                </a:solidFill>
                <a:latin typeface="Wingdings"/>
                <a:ea typeface="Wingdings"/>
              </a:rPr>
              <a:t></a:t>
            </a:r>
            <a:r>
              <a:rPr b="0" lang="en-US" sz="4400" spc="-1" strike="noStrike">
                <a:solidFill>
                  <a:srgbClr val="f60000"/>
                </a:solidFill>
                <a:latin typeface="Times New Roman"/>
              </a:rPr>
              <a:t> No Answer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920" y="3935520"/>
            <a:ext cx="243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connected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munit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04400" y="408780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ois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9" name="Rectangle 3"/>
          <p:cNvGraphicFramePr/>
          <p:nvPr/>
        </p:nvGraphicFramePr>
        <p:xfrm>
          <a:off x="5219640" y="1525680"/>
          <a:ext cx="265428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525680"/>
                    <a:ext cx="26542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457200" y="1295280"/>
            <a:ext cx="3962520" cy="3657600"/>
          </a:xfrm>
          <a:prstGeom prst="rect">
            <a:avLst/>
          </a:prstGeom>
          <a:noFill/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1295280"/>
            <a:ext cx="3810240" cy="3657600"/>
          </a:xfrm>
          <a:prstGeom prst="rect">
            <a:avLst/>
          </a:prstGeom>
          <a:noFill/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3" name="Rectangle 3"/>
          <p:cNvGraphicFramePr/>
          <p:nvPr/>
        </p:nvGraphicFramePr>
        <p:xfrm>
          <a:off x="1019160" y="1550880"/>
          <a:ext cx="3265560" cy="224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9160" y="1550880"/>
                    <a:ext cx="3265560" cy="22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4A0B-ACE5-4E2D-BAC3-5A5FFA0B0DD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os</cp:lastModifiedBy>
  <dcterms:modified xsi:type="dcterms:W3CDTF">2009-06-05T15:30:14Z</dcterms:modified>
  <cp:revision>2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