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0.png" ContentType="image/png"/>
  <Override PartName="/ppt/media/image5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1.png" ContentType="image/png"/>
  <Override PartName="/ppt/media/image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EA137A-AF9A-4AA4-80B4-D5B928D3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1C4-3CE0-4A07-9289-22DA739A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206-A7DD-42EF-A9B6-9CBA329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2FD-B7FF-4C50-A299-FCF83F95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C24-4F5E-438C-8D6E-89DDA921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E87-432F-4DCC-BF32-CF9E6B5B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CB41-4CB9-4BAC-A40A-EFFA1231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B32C-FB3F-459F-8B31-DC0D12C5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CB51-BBF5-4C4F-A82A-296FE53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4AF9-7AA7-4A36-A4F5-87C3BE5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ACBF-F2BD-4131-B6F9-2B8934AD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5AEE-5929-429B-BABE-23B5BD2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499-207F-463D-A466-6B6A708D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A5A2-2CD9-4CD7-B6EC-342B622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9765-EA63-407E-821F-FE445C6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8082-8129-4C73-8706-96147643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784-2F9A-4550-AC8A-D088897F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C023-2FA7-446E-8BB4-407CC6A8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F36-6F19-45D9-8CB4-C1BC36D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A11-52A0-454D-8C5B-46B820E4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DA0-B998-42B0-BEEB-35B2C9C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2E1-1CF8-4DB7-8ACA-EE31AC89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CAF-9B31-4997-80DE-B58094D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CF6-C885-48B9-93F1-0D45F51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A81-274D-4A54-81AC-788C3B2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5-</a:t>
            </a:r>
            <a:fld id="{56876A51-E89B-4A3B-8565-DB046A132F3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5B3B7D66-BAE2-43CD-86C8-154D9E3B950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3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24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9.wmf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5: Graphs over time &amp; tens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AE3-5F4F-444A-A80C-614B0184715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mode does not need to be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can have more than 3 m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76400" y="42656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42656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453440" y="3774960"/>
            <a:ext cx="40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6477120"/>
            <a:ext cx="9144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8760" y="6172200"/>
            <a:ext cx="21862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IP destin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76520" y="5257800"/>
            <a:ext cx="0" cy="9144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752480" y="3047760"/>
            <a:ext cx="381240" cy="10666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3720" y="2666880"/>
            <a:ext cx="16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Dest. por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00" y="53784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IP sour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560" y="38862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80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5480" y="335268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25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29B-2261-4680-A6E6-42B2D9C802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ode does not need to be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 can have more than 3 m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g, fFMRI: x,y,z, time, person-id, task-i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1371600" y="3828960"/>
            <a:ext cx="2362320" cy="210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88920" y="6019920"/>
            <a:ext cx="744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ttp://denlab.temple.edu/bidms/cgi-bin/browse.cg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5120" y="4876920"/>
            <a:ext cx="4586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rom DENLAB, Temple U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Prof. V. Megalooikonomou 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A12-193E-4A40-BF98-0272348A16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otivating Applications 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 tensors are useful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b mining (TOPHIT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vironmental senso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usion detection (src, dst, time, dest-por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cial networks (src, dst, time, type-of-contac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e recogn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933-6E1D-491E-87F9-F407354D1F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1337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21A-72E2-4ED9-979A-275D8630C3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basic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ulti-mode extensions of SVD – recall th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5F6-E73C-4ED8-B4D0-3BFB1201A2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786200" y="2481120"/>
            <a:ext cx="3286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minder: SV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7120" y="1147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rank-k approximation in L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1495080" y="2817720"/>
            <a:ext cx="1828800" cy="11430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lfae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38360" y="24750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68000" y="316080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43520" y="1798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247480" y="17226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5120" y="283860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95480" y="2475000"/>
            <a:ext cx="481320" cy="1752480"/>
            <a:chOff x="3795480" y="2475000"/>
            <a:chExt cx="481320" cy="1752480"/>
          </a:xfrm>
        </p:grpSpPr>
        <p:sp>
          <p:nvSpPr>
            <p:cNvPr id="219" name=""/>
            <p:cNvSpPr/>
            <p:nvPr/>
          </p:nvSpPr>
          <p:spPr>
            <a:xfrm>
              <a:off x="4124520" y="2475000"/>
              <a:ext cx="152280" cy="1752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5480" y="31161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lfaen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77960" y="1776240"/>
            <a:ext cx="1066680" cy="660600"/>
            <a:chOff x="5277960" y="1776240"/>
            <a:chExt cx="1066680" cy="660600"/>
          </a:xfrm>
        </p:grpSpPr>
        <p:sp>
          <p:nvSpPr>
            <p:cNvPr id="222" name=""/>
            <p:cNvSpPr/>
            <p:nvPr/>
          </p:nvSpPr>
          <p:spPr>
            <a:xfrm>
              <a:off x="5658120" y="17762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lfaen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5658840" y="1751040"/>
              <a:ext cx="304920" cy="1066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313520" y="422280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lfaen"/>
              </a:rPr>
              <a:t>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520080" y="3307320"/>
            <a:ext cx="1828800" cy="163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775040" y="2485440"/>
            <a:ext cx="174600" cy="16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75680" y="2800440"/>
            <a:ext cx="5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lfaen"/>
              </a:rPr>
              <a:t>V</a:t>
            </a:r>
            <a:r>
              <a:rPr b="1" lang="en-US" sz="2800" spc="-1" strike="noStrike" baseline="30000">
                <a:solidFill>
                  <a:srgbClr val="000066"/>
                </a:solidFill>
                <a:latin typeface="Sylfae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46240" y="2830680"/>
            <a:ext cx="97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11520" y="2471760"/>
            <a:ext cx="171720" cy="1832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1440" y="2651040"/>
            <a:ext cx="15876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35480" y="2492280"/>
            <a:ext cx="1149480" cy="1634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34040" y="2660760"/>
            <a:ext cx="1150920" cy="169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63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010-97A0-4235-A240-A99FA81235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minder: SV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7120" y="1147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rank-k approximation in L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1495080" y="2817720"/>
            <a:ext cx="1828800" cy="11430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lfae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38360" y="24750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8000" y="316080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43520" y="1798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2247480" y="17226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3205800" y="3307320"/>
            <a:ext cx="1828800" cy="163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260600" y="2485440"/>
            <a:ext cx="174600" cy="16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46240" y="2830680"/>
            <a:ext cx="97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9440" y="2514600"/>
            <a:ext cx="171360" cy="1832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2514600"/>
            <a:ext cx="15876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492280"/>
            <a:ext cx="1149480" cy="1634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2514600"/>
            <a:ext cx="1150920" cy="169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71880" y="30290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8280" y="1949400"/>
            <a:ext cx="1172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61120" y="1996920"/>
            <a:ext cx="1172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635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9D0-402C-4AF7-985A-29A8368401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Goal: extension to &gt;=3 mod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77160" y="2658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msy10"/>
                <a:ea typeface="Arial"/>
              </a:rPr>
              <a:t>¼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923200" y="1456560"/>
            <a:ext cx="2129400" cy="2323440"/>
            <a:chOff x="2923200" y="1456560"/>
            <a:chExt cx="2129400" cy="2323440"/>
          </a:xfrm>
        </p:grpSpPr>
        <p:sp>
          <p:nvSpPr>
            <p:cNvPr id="257" name=""/>
            <p:cNvSpPr/>
            <p:nvPr/>
          </p:nvSpPr>
          <p:spPr>
            <a:xfrm>
              <a:off x="2923200" y="222084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0800">
              <a:off x="3581640" y="16603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30120" y="2630520"/>
              <a:ext cx="427320" cy="114948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69960" y="2584440"/>
              <a:ext cx="782640" cy="49356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7720" y="2257560"/>
              <a:ext cx="6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637800">
              <a:off x="3811320" y="1920960"/>
              <a:ext cx="79056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6160" y="320508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160" y="2665440"/>
              <a:ext cx="533520" cy="304920"/>
            </a:xfrm>
            <a:prstGeom prst="line">
              <a:avLst/>
            </a:prstGeom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3671640" y="2840040"/>
              <a:ext cx="1681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611160" y="2535120"/>
              <a:ext cx="528840" cy="573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371600" y="2057400"/>
            <a:ext cx="1017360" cy="1600200"/>
            <a:chOff x="1371600" y="2057400"/>
            <a:chExt cx="1017360" cy="1600200"/>
          </a:xfrm>
        </p:grpSpPr>
        <p:sp>
          <p:nvSpPr>
            <p:cNvPr id="268" name=""/>
            <p:cNvSpPr/>
            <p:nvPr/>
          </p:nvSpPr>
          <p:spPr>
            <a:xfrm>
              <a:off x="1371600" y="2555640"/>
              <a:ext cx="877680" cy="11019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1595160" y="3043080"/>
              <a:ext cx="24624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441440" y="205740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0" y="2345400"/>
            <a:ext cx="2741760" cy="1159560"/>
            <a:chOff x="5335200" y="2345400"/>
            <a:chExt cx="2741760" cy="1159560"/>
          </a:xfrm>
        </p:grpSpPr>
        <p:grpSp>
          <p:nvGrpSpPr>
            <p:cNvPr id="272" name=""/>
            <p:cNvGrpSpPr/>
            <p:nvPr/>
          </p:nvGrpSpPr>
          <p:grpSpPr>
            <a:xfrm>
              <a:off x="5581800" y="2345400"/>
              <a:ext cx="2495160" cy="1159560"/>
              <a:chOff x="5581800" y="2345400"/>
              <a:chExt cx="2495160" cy="115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5851440" y="2835000"/>
                <a:ext cx="74520" cy="669960"/>
              </a:xfrm>
              <a:prstGeom prst="rect">
                <a:avLst/>
              </a:prstGeom>
              <a:noFill/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5400000">
                <a:off x="6195600" y="2623680"/>
                <a:ext cx="85680" cy="476280"/>
              </a:xfrm>
              <a:prstGeom prst="rect">
                <a:avLst/>
              </a:prstGeom>
              <a:noFill/>
              <a:ln cap="sq"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6760" y="269856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70640" y="2835000"/>
                <a:ext cx="73080" cy="669960"/>
              </a:xfrm>
              <a:prstGeom prst="rect">
                <a:avLst/>
              </a:prstGeom>
              <a:noFill/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84320" y="266688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+…+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700000">
                <a:off x="6028920" y="2300040"/>
                <a:ext cx="79560" cy="511200"/>
              </a:xfrm>
              <a:prstGeom prst="rect">
                <a:avLst/>
              </a:prstGeom>
              <a:noFill/>
              <a:ln cap="sq"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7795800" y="2622240"/>
                <a:ext cx="85680" cy="476280"/>
              </a:xfrm>
              <a:prstGeom prst="rect">
                <a:avLst/>
              </a:prstGeom>
              <a:noFill/>
              <a:ln cap="sq"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700000">
                <a:off x="7629120" y="2298240"/>
                <a:ext cx="79200" cy="511200"/>
              </a:xfrm>
              <a:prstGeom prst="rect">
                <a:avLst/>
              </a:prstGeom>
              <a:noFill/>
              <a:ln cap="sq"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1800" y="2628720"/>
                <a:ext cx="185760" cy="16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89840" y="2685960"/>
                <a:ext cx="222120" cy="16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3" name=""/>
            <p:cNvSpPr/>
            <p:nvPr/>
          </p:nvSpPr>
          <p:spPr>
            <a:xfrm>
              <a:off x="5335200" y="26672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824120" y="3968640"/>
            <a:ext cx="5591160" cy="596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DE9-826E-48E9-82DC-A271EEED20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ain points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 major types of tensor decompos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oth can be solved with ``alternating least squares’’ (AL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D6A-BE2B-45C5-B6B7-D3DBC7FD96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5715000" y="3429000"/>
            <a:ext cx="2666880" cy="2743200"/>
            <a:chOff x="5715000" y="3429000"/>
            <a:chExt cx="2666880" cy="2743200"/>
          </a:xfrm>
        </p:grpSpPr>
        <p:sp>
          <p:nvSpPr>
            <p:cNvPr id="289" name=""/>
            <p:cNvSpPr/>
            <p:nvPr/>
          </p:nvSpPr>
          <p:spPr>
            <a:xfrm>
              <a:off x="5715000" y="3429000"/>
              <a:ext cx="26668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7200" y="4854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89480" y="4819680"/>
              <a:ext cx="426600" cy="1149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2200" y="441000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29320" y="4773600"/>
              <a:ext cx="782280" cy="4935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06360" y="4446360"/>
              <a:ext cx="6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637800">
              <a:off x="6970320" y="3957840"/>
              <a:ext cx="790560" cy="29808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640800">
              <a:off x="6740640" y="369720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35160" y="539424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0520" y="4854600"/>
              <a:ext cx="532800" cy="304560"/>
            </a:xfrm>
            <a:prstGeom prst="line">
              <a:avLst/>
            </a:prstGeom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6830640" y="5029200"/>
              <a:ext cx="1681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770520" y="4724280"/>
              <a:ext cx="528120" cy="573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pecially Structured Tenso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ucker Tens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ruskal Tens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4842000"/>
            <a:ext cx="878040" cy="110160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48200" y="5329080"/>
            <a:ext cx="246240" cy="233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61840" y="4761000"/>
            <a:ext cx="995400" cy="12938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7920" y="433692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127160" y="5384880"/>
            <a:ext cx="236520" cy="239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36080" y="48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68360" y="4819680"/>
            <a:ext cx="427320" cy="114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61440" y="4410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8200" y="4773600"/>
            <a:ext cx="782640" cy="493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3520" y="4446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8637800">
            <a:off x="3049560" y="3957840"/>
            <a:ext cx="7905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54440" y="4761000"/>
            <a:ext cx="441360" cy="6127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8640800">
            <a:off x="2824200" y="36979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29160" y="53942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941560" y="4987800"/>
            <a:ext cx="177840" cy="268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914400" y="2209680"/>
            <a:ext cx="3309840" cy="1155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4952880" y="2363760"/>
            <a:ext cx="2513160" cy="785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794120" y="434340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09960" y="3041640"/>
            <a:ext cx="1073520" cy="533520"/>
            <a:chOff x="3009960" y="3041640"/>
            <a:chExt cx="1073520" cy="533520"/>
          </a:xfrm>
        </p:grpSpPr>
        <p:sp>
          <p:nvSpPr>
            <p:cNvPr id="323" name=""/>
            <p:cNvSpPr/>
            <p:nvPr/>
          </p:nvSpPr>
          <p:spPr>
            <a:xfrm>
              <a:off x="3009960" y="3041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8200" y="3079800"/>
              <a:ext cx="845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Our </a:t>
              </a:r>
              <a:br>
                <a:rPr sz="1400"/>
              </a:b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Not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53120" y="2743200"/>
            <a:ext cx="1073520" cy="533160"/>
            <a:chOff x="7053120" y="2743200"/>
            <a:chExt cx="1073520" cy="533160"/>
          </a:xfrm>
        </p:grpSpPr>
        <p:sp>
          <p:nvSpPr>
            <p:cNvPr id="326" name=""/>
            <p:cNvSpPr/>
            <p:nvPr/>
          </p:nvSpPr>
          <p:spPr>
            <a:xfrm>
              <a:off x="7053120" y="2743200"/>
              <a:ext cx="228600" cy="533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81360" y="2781360"/>
              <a:ext cx="845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Our </a:t>
              </a:r>
              <a:br>
                <a:rPr sz="1400"/>
              </a:b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Not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63800" y="3352680"/>
            <a:ext cx="2818080" cy="2667240"/>
            <a:chOff x="5563800" y="3352680"/>
            <a:chExt cx="2818080" cy="2667240"/>
          </a:xfrm>
        </p:grpSpPr>
        <p:sp>
          <p:nvSpPr>
            <p:cNvPr id="329" name=""/>
            <p:cNvSpPr/>
            <p:nvPr/>
          </p:nvSpPr>
          <p:spPr>
            <a:xfrm>
              <a:off x="5791320" y="3352680"/>
              <a:ext cx="2590560" cy="266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563800" y="4402080"/>
              <a:ext cx="2741760" cy="1472400"/>
              <a:chOff x="5563800" y="4402080"/>
              <a:chExt cx="2741760" cy="1472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563800" y="4551840"/>
                <a:ext cx="2741760" cy="1105920"/>
                <a:chOff x="5563800" y="4551840"/>
                <a:chExt cx="2741760" cy="1105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880320" y="4591080"/>
                  <a:ext cx="1839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5810400" y="4551840"/>
                  <a:ext cx="2495160" cy="1105920"/>
                  <a:chOff x="5810400" y="4551840"/>
                  <a:chExt cx="2495160" cy="11059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6080040" y="5024880"/>
                    <a:ext cx="74520" cy="6328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5400000">
                    <a:off x="6426720" y="4811760"/>
                    <a:ext cx="80640" cy="476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75360" y="4895640"/>
                    <a:ext cx="1843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599240" y="5024880"/>
                    <a:ext cx="73080" cy="6328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712920" y="4865400"/>
                    <a:ext cx="67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Arial"/>
                        <a:ea typeface="Arial"/>
                      </a:rPr>
                      <a:t>+…+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2700000">
                    <a:off x="6260040" y="4504320"/>
                    <a:ext cx="74880" cy="51120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5400000">
                    <a:off x="8026920" y="4809960"/>
                    <a:ext cx="80640" cy="476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700000">
                    <a:off x="7860240" y="4503240"/>
                    <a:ext cx="74520" cy="51120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10400" y="4829760"/>
                    <a:ext cx="18576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8440" y="4883400"/>
                    <a:ext cx="222120" cy="1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44" name=""/>
                <p:cNvSpPr/>
                <p:nvPr/>
              </p:nvSpPr>
              <p:spPr>
                <a:xfrm>
                  <a:off x="5563800" y="48657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Arial"/>
                      <a:ea typeface="Arial"/>
                    </a:rPr>
                    <a:t>=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6100200" y="5586840"/>
                <a:ext cx="3376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25520" y="5586840"/>
                <a:ext cx="3542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52480" y="5082120"/>
                <a:ext cx="3286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24600" y="4433400"/>
                <a:ext cx="3668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929720" y="5082120"/>
                <a:ext cx="3452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73240" y="4402080"/>
                <a:ext cx="3834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2357280" y="3962520"/>
            <a:ext cx="609840" cy="76176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2560" y="36576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cor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7BD-61A2-4EFB-892F-13490A433549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657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374-3BC2-4398-A609-4AB626D330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47760" y="1143000"/>
            <a:ext cx="3916440" cy="2746440"/>
          </a:xfrm>
          <a:prstGeom prst="rect">
            <a:avLst/>
          </a:prstGeom>
          <a:solidFill>
            <a:srgbClr val="ffffff">
              <a:alpha val="68000"/>
            </a:srgbClr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Times New Roman"/>
              </a:rPr>
              <a:t>Tucker Decomposition - intuition</a:t>
            </a:r>
            <a:endParaRPr b="1" lang="en-US" sz="41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33240" y="1137960"/>
            <a:ext cx="3429000" cy="2554560"/>
            <a:chOff x="633240" y="1137960"/>
            <a:chExt cx="3429000" cy="2554560"/>
          </a:xfrm>
        </p:grpSpPr>
        <p:sp>
          <p:nvSpPr>
            <p:cNvPr id="357" name=""/>
            <p:cNvSpPr/>
            <p:nvPr/>
          </p:nvSpPr>
          <p:spPr>
            <a:xfrm>
              <a:off x="633240" y="2398680"/>
              <a:ext cx="995400" cy="129384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9320" y="19749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898200" y="302256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0" name=""/>
            <p:cNvGrpSpPr/>
            <p:nvPr/>
          </p:nvGrpSpPr>
          <p:grpSpPr>
            <a:xfrm>
              <a:off x="1668960" y="1137960"/>
              <a:ext cx="2393280" cy="2468880"/>
              <a:chOff x="1668960" y="1137960"/>
              <a:chExt cx="2393280" cy="2468880"/>
            </a:xfrm>
          </p:grpSpPr>
          <p:sp>
            <p:nvSpPr>
              <p:cNvPr id="361" name=""/>
              <p:cNvSpPr/>
              <p:nvPr/>
            </p:nvSpPr>
            <p:spPr>
              <a:xfrm>
                <a:off x="1668960" y="248472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msy10"/>
                    <a:ea typeface="Arial"/>
                  </a:rPr>
                  <a:t>¼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39760" y="2457720"/>
                <a:ext cx="426960" cy="114912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480" y="2048040"/>
                <a:ext cx="64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I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x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79600" y="2411640"/>
                <a:ext cx="782640" cy="493560"/>
              </a:xfrm>
              <a:prstGeom prst="rect">
                <a:avLst/>
              </a:prstGeom>
              <a:noFill/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64560" y="2084400"/>
                <a:ext cx="61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J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637800">
                <a:off x="2820600" y="1595880"/>
                <a:ext cx="79056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5480" y="2398680"/>
                <a:ext cx="441360" cy="61308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640800">
                <a:off x="2595240" y="1335600"/>
                <a:ext cx="69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K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00200" y="3032280"/>
                <a:ext cx="105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R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960" y="2625840"/>
                <a:ext cx="17748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3847680"/>
            <a:ext cx="77724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hor x keyword x confe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author x author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: keyword x keyword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: conf. x conf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French Script MT"/>
              </a:rPr>
              <a:t>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how groups relate to each oth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6324480"/>
            <a:ext cx="23623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7AE-8EE3-41C3-A5E0-0BEC5F7050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ntuition behind core tenso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-d case: co-cluste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Dhillon et al. Information-Theoretic Co-clustering, KDD’03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380880"/>
            <a:ext cx="533520" cy="6096240"/>
          </a:xfrm>
          <a:custGeom>
            <a:avLst/>
            <a:gdLst>
              <a:gd name="textAreaLeft" fmla="*/ 156600 w 533520"/>
              <a:gd name="textAreaRight" fmla="*/ 533880 w 533520"/>
              <a:gd name="textAreaTop" fmla="*/ 253800 h 6096240"/>
              <a:gd name="textAreaBottom" fmla="*/ 584244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000-45A6-496F-A0C8-41505531A9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124080" y="130500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486400" y="351468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2960" y="351468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962000" y="351468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819520" y="35910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24696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34920" y="1917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97000" y="85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8400" y="3137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81600" y="31370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17560" y="37465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25560" y="30607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92720" y="35942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42004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48099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10280" y="366696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77148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100008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1380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206676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267660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3320" y="15336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g, terms x docu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D6B-0D90-419A-A578-57E03DBEED0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24080" y="132408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86400" y="353376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2960" y="353376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962000" y="353376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800440" y="361008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5638680" y="42195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482904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36860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79056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101916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14000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208584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269568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280" y="5410080"/>
            <a:ext cx="179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-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7080" y="4600440"/>
            <a:ext cx="165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8600" y="2238480"/>
            <a:ext cx="203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term group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c.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152880"/>
            <a:ext cx="22860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15360" y="132408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5880" y="20098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23760" y="2543040"/>
            <a:ext cx="237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common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9640" y="16524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41720" y="393840"/>
            <a:ext cx="113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076600" y="380880"/>
            <a:ext cx="533160" cy="6096240"/>
          </a:xfrm>
          <a:custGeom>
            <a:avLst/>
            <a:gdLst>
              <a:gd name="textAreaLeft" fmla="*/ 156600 w 533160"/>
              <a:gd name="textAreaRight" fmla="*/ 533520 w 533160"/>
              <a:gd name="textAreaTop" fmla="*/ 253800 h 6096240"/>
              <a:gd name="textAreaBottom" fmla="*/ 584244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E58-E1B7-4379-B5FE-2FF31C4671D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tools - summar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wo main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AFA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uck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oth find row-, column-, tube-grou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in PARAFAC the three groups are identic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 To solve: Alternating Least Squares 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A03-F996-4477-BD45-013772EB3A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2666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9BC-3F43-4DDA-8AA5-CFAF1C1153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eb graph min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order the importance of web pag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 HI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geRan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nsor extension on HITS (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OPHI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91080" y="3505320"/>
            <a:ext cx="4324320" cy="27972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276800" cy="275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352680" y="6324480"/>
            <a:ext cx="23623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682-CDAD-47F7-BE1D-6751AB8795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160" y="12240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Kleinberg’s Hubs and Authorities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(the HITS metho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78000"/>
            <a:ext cx="4608360" cy="24400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60240" y="3983040"/>
            <a:ext cx="3149640" cy="21891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57800" y="2044800"/>
            <a:ext cx="3375000" cy="608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956480" y="160020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rse adjacency matrix and its SVD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5120" y="400212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952880" y="4616280"/>
            <a:ext cx="3649680" cy="797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V="1">
            <a:off x="6067440" y="538452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99200" y="553896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97520" y="56149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182000" y="5422680"/>
            <a:ext cx="11556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27880" y="4386240"/>
            <a:ext cx="15408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642080" y="4386240"/>
            <a:ext cx="11592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3840" y="38098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488808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23960" y="46544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648320"/>
            <a:ext cx="0" cy="685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667400"/>
            <a:ext cx="6094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5715000" y="2971800"/>
            <a:ext cx="2057400" cy="469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82520" y="64929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leinberg, JACM, 199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783-9BDB-498F-BFFF-D7DFFD2DD2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6324480"/>
            <a:ext cx="23619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6800" y="458784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04920" y="5202360"/>
            <a:ext cx="3649680" cy="796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flipV="1">
            <a:off x="1419120" y="597024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60958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9560" y="620064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33680" y="600840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79560" y="4971960"/>
            <a:ext cx="15408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994120" y="4971960"/>
            <a:ext cx="11592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441972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39760" y="5538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5640" y="5240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5234040"/>
            <a:ext cx="0" cy="685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5253120"/>
            <a:ext cx="60984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ITS Authorities on Sample Data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67" name="Rectangle 3"/>
          <p:cNvGraphicFramePr/>
          <p:nvPr/>
        </p:nvGraphicFramePr>
        <p:xfrm>
          <a:off x="647640" y="1066680"/>
          <a:ext cx="2470320" cy="171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1066680"/>
                    <a:ext cx="24703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954080" y="1566720"/>
          <a:ext cx="2571840" cy="238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1566720"/>
                    <a:ext cx="257184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5838840" y="1700280"/>
            <a:ext cx="313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e started our crawl from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http://www-neos.mcs.anl.gov/neos,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and crawled 4700 pages,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resulting in 560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ross-linked host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306600" y="2111400"/>
          <a:ext cx="2586240" cy="2381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06600" y="2111400"/>
                    <a:ext cx="25862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873680" y="2833560"/>
          <a:ext cx="2585880" cy="23734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3680" y="2833560"/>
                    <a:ext cx="25858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6102360" y="3678120"/>
          <a:ext cx="2584440" cy="23814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02360" y="3678120"/>
                    <a:ext cx="25844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FA9-5799-4DFC-9527-A78DD1DDAC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81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482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FCC-C9AD-4DE7-9545-67602BCD9F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anks to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mara Kolda (Sandia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 the foils on tensor definitions, and on TOPHI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" name="Picture 7" descr="kolda"/>
          <p:cNvPicPr/>
          <p:nvPr/>
        </p:nvPicPr>
        <p:blipFill>
          <a:blip r:embed="rId1"/>
          <a:stretch/>
        </p:blipFill>
        <p:spPr>
          <a:xfrm>
            <a:off x="6324480" y="1371600"/>
            <a:ext cx="11588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AD8-68CC-4ADF-B8A3-EC9C9C951F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3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494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180036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42960" y="1733400"/>
            <a:ext cx="381240" cy="1526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38098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288"/>
                </a:moveTo>
                <a:cubicBezTo>
                  <a:pt x="320" y="192"/>
                  <a:pt x="640" y="96"/>
                  <a:pt x="816" y="48"/>
                </a:cubicBezTo>
                <a:cubicBezTo>
                  <a:pt x="992" y="0"/>
                  <a:pt x="976" y="0"/>
                  <a:pt x="1056" y="0"/>
                </a:cubicBezTo>
                <a:cubicBezTo>
                  <a:pt x="1136" y="0"/>
                  <a:pt x="1216" y="16"/>
                  <a:pt x="1296" y="48"/>
                </a:cubicBezTo>
                <a:cubicBezTo>
                  <a:pt x="1376" y="80"/>
                  <a:pt x="1464" y="152"/>
                  <a:pt x="1536" y="192"/>
                </a:cubicBezTo>
                <a:cubicBezTo>
                  <a:pt x="1608" y="232"/>
                  <a:pt x="1668" y="260"/>
                  <a:pt x="1728" y="288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96000" y="4486320"/>
            <a:ext cx="228600" cy="228600"/>
          </a:xfrm>
          <a:prstGeom prst="ellipse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0E5-4129-4B18-9380-7B59C059A21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09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62000" y="180036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42960" y="1733400"/>
            <a:ext cx="381240" cy="1526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38098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288"/>
                </a:moveTo>
                <a:cubicBezTo>
                  <a:pt x="320" y="192"/>
                  <a:pt x="640" y="96"/>
                  <a:pt x="816" y="48"/>
                </a:cubicBezTo>
                <a:cubicBezTo>
                  <a:pt x="992" y="0"/>
                  <a:pt x="976" y="0"/>
                  <a:pt x="1056" y="0"/>
                </a:cubicBezTo>
                <a:cubicBezTo>
                  <a:pt x="1136" y="0"/>
                  <a:pt x="1216" y="16"/>
                  <a:pt x="1296" y="48"/>
                </a:cubicBezTo>
                <a:cubicBezTo>
                  <a:pt x="1376" y="80"/>
                  <a:pt x="1464" y="152"/>
                  <a:pt x="1536" y="192"/>
                </a:cubicBezTo>
                <a:cubicBezTo>
                  <a:pt x="1608" y="232"/>
                  <a:pt x="1668" y="260"/>
                  <a:pt x="1728" y="288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1282680"/>
            <a:ext cx="1523880" cy="165240"/>
          </a:xfrm>
          <a:custGeom>
            <a:avLst/>
            <a:gdLst/>
            <a:ahLst/>
            <a:rect l="l" t="t" r="r" b="b"/>
            <a:pathLst>
              <a:path w="960" h="104">
                <a:moveTo>
                  <a:pt x="960" y="104"/>
                </a:moveTo>
                <a:cubicBezTo>
                  <a:pt x="820" y="88"/>
                  <a:pt x="680" y="72"/>
                  <a:pt x="576" y="56"/>
                </a:cubicBezTo>
                <a:cubicBezTo>
                  <a:pt x="472" y="40"/>
                  <a:pt x="400" y="16"/>
                  <a:pt x="336" y="8"/>
                </a:cubicBezTo>
                <a:cubicBezTo>
                  <a:pt x="272" y="0"/>
                  <a:pt x="232" y="8"/>
                  <a:pt x="192" y="8"/>
                </a:cubicBezTo>
                <a:cubicBezTo>
                  <a:pt x="152" y="8"/>
                  <a:pt x="128" y="0"/>
                  <a:pt x="96" y="8"/>
                </a:cubicBezTo>
                <a:cubicBezTo>
                  <a:pt x="64" y="16"/>
                  <a:pt x="32" y="36"/>
                  <a:pt x="0" y="56"/>
                </a:cubicBezTo>
              </a:path>
            </a:pathLst>
          </a:custGeom>
          <a:noFill/>
          <a:ln w="28440">
            <a:solidFill>
              <a:srgbClr val="9933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1219320" y="4276440"/>
            <a:ext cx="2666880" cy="2844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85920" y="4286160"/>
            <a:ext cx="2590920" cy="571680"/>
          </a:xfrm>
          <a:custGeom>
            <a:avLst/>
            <a:gdLst/>
            <a:ahLst/>
            <a:rect l="l" t="t" r="r" b="b"/>
            <a:pathLst>
              <a:path w="1632" h="360">
                <a:moveTo>
                  <a:pt x="1632" y="0"/>
                </a:moveTo>
                <a:cubicBezTo>
                  <a:pt x="1432" y="72"/>
                  <a:pt x="1232" y="144"/>
                  <a:pt x="1104" y="192"/>
                </a:cubicBezTo>
                <a:cubicBezTo>
                  <a:pt x="976" y="240"/>
                  <a:pt x="952" y="264"/>
                  <a:pt x="864" y="288"/>
                </a:cubicBezTo>
                <a:cubicBezTo>
                  <a:pt x="776" y="312"/>
                  <a:pt x="640" y="328"/>
                  <a:pt x="576" y="336"/>
                </a:cubicBezTo>
                <a:cubicBezTo>
                  <a:pt x="512" y="344"/>
                  <a:pt x="544" y="360"/>
                  <a:pt x="480" y="336"/>
                </a:cubicBezTo>
                <a:cubicBezTo>
                  <a:pt x="416" y="312"/>
                  <a:pt x="272" y="240"/>
                  <a:pt x="192" y="192"/>
                </a:cubicBezTo>
                <a:cubicBezTo>
                  <a:pt x="112" y="144"/>
                  <a:pt x="56" y="96"/>
                  <a:pt x="0" y="48"/>
                </a:cubicBezTo>
              </a:path>
            </a:pathLst>
          </a:custGeom>
          <a:noFill/>
          <a:ln w="2844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96000" y="4486320"/>
            <a:ext cx="228600" cy="228600"/>
          </a:xfrm>
          <a:prstGeom prst="ellipse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76880" y="5553000"/>
            <a:ext cx="228600" cy="2286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86360" y="5095800"/>
            <a:ext cx="228600" cy="2286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1467000"/>
            <a:ext cx="914400" cy="15228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557-D1F1-4E61-BE88-7C25522799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ical HITS (TOPHIT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52388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ain Ide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xtend the idea behind the HITS model to incorporate term (i.e., topical) inform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70040" y="3467160"/>
            <a:ext cx="8218440" cy="23731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226040" y="492588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497400" y="5310000"/>
            <a:ext cx="193680" cy="384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51080" y="56545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92960" y="55404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6414840" y="5348160"/>
            <a:ext cx="191880" cy="268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725720" y="4541400"/>
            <a:ext cx="191880" cy="42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6953040" y="4581360"/>
            <a:ext cx="191880" cy="306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9320" y="48880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781200" y="491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61600" y="431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8843600">
            <a:off x="1144080" y="3916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35053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495680" y="3813120"/>
            <a:ext cx="26856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75640" y="35434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722640" y="3851280"/>
            <a:ext cx="26820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914400" y="3771720"/>
            <a:ext cx="685800" cy="533160"/>
          </a:xfrm>
          <a:prstGeom prst="line">
            <a:avLst/>
          </a:prstGeom>
          <a:ln cap="sq"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43434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4295880"/>
            <a:ext cx="13716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476440" y="2274840"/>
            <a:ext cx="3395880" cy="9255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334120" y="243828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14400" y="3657600"/>
            <a:ext cx="1905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05080" y="365760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345744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345744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730-5E9A-4810-A34D-355AF4FFDE0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ical HITS (TOPHIT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152388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ain Ide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xtend the idea behind the HITS model to incorporate term (i.e., topical) inform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70040" y="3467160"/>
            <a:ext cx="8218440" cy="2373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226040" y="492588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497400" y="5310000"/>
            <a:ext cx="193680" cy="384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51080" y="56545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92960" y="55404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6414840" y="5348160"/>
            <a:ext cx="191880" cy="268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4725720" y="4541400"/>
            <a:ext cx="191880" cy="42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6953040" y="4581360"/>
            <a:ext cx="191880" cy="306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99320" y="48880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781200" y="491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61600" y="431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8843600">
            <a:off x="1144080" y="3916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495680" y="3813120"/>
            <a:ext cx="26856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75640" y="35434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722640" y="3851280"/>
            <a:ext cx="26820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914400" y="3771720"/>
            <a:ext cx="685800" cy="533160"/>
          </a:xfrm>
          <a:prstGeom prst="line">
            <a:avLst/>
          </a:prstGeom>
          <a:ln cap="sq"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3434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14400" y="4295880"/>
            <a:ext cx="13716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476440" y="2274840"/>
            <a:ext cx="3395880" cy="925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613-A4F9-4E64-ABD7-DDB19DF29A0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4771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HITS Terms &amp; Authorities on Sample Data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52280" y="1290600"/>
          <a:ext cx="3637080" cy="17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0600"/>
                    <a:ext cx="36370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822240" y="1685880"/>
          <a:ext cx="3637080" cy="12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240" y="1685880"/>
                    <a:ext cx="3637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1492200" y="2052720"/>
          <a:ext cx="3637080" cy="17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2052720"/>
                    <a:ext cx="3637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2160720" y="2509920"/>
          <a:ext cx="3636720" cy="1757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720" y="2509920"/>
                    <a:ext cx="363672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830680" y="3043080"/>
          <a:ext cx="3636720" cy="1757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0680" y="3043080"/>
                    <a:ext cx="363672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500280" y="3576600"/>
          <a:ext cx="3637080" cy="17575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576600"/>
                    <a:ext cx="3637080" cy="1757520"/>
                  </a:xfrm>
                  <a:prstGeom prst="rect">
                    <a:avLst/>
                  </a:prstGeom>
                  <a:ln w="5724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168800" y="4038480"/>
          <a:ext cx="3637080" cy="14432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8800" y="4038480"/>
                    <a:ext cx="363708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4838760" y="4508640"/>
          <a:ext cx="3637080" cy="17571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38760" y="4508640"/>
                    <a:ext cx="3637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506920" y="5100480"/>
          <a:ext cx="3637080" cy="17575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6920" y="5100480"/>
                    <a:ext cx="36370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954760" y="1700280"/>
            <a:ext cx="29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TOPHITS uses 3D analysis to find the dominant groupings of web pages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term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9"/>
          <a:stretch/>
        </p:blipFill>
        <p:spPr>
          <a:xfrm>
            <a:off x="84240" y="5146560"/>
            <a:ext cx="3801960" cy="11858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682640" y="5877000"/>
            <a:ext cx="765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346040" y="6126120"/>
            <a:ext cx="88920" cy="1922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185840" y="6324480"/>
            <a:ext cx="622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32040" y="6183360"/>
            <a:ext cx="62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695320" y="6086160"/>
            <a:ext cx="88920" cy="135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1914120" y="5683320"/>
            <a:ext cx="88920" cy="2109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944440" y="5703480"/>
            <a:ext cx="88920" cy="15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73520" y="5856120"/>
            <a:ext cx="763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107640" y="585072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0640" y="5618160"/>
            <a:ext cx="24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8843600">
            <a:off x="237600" y="535140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78120" y="5165640"/>
            <a:ext cx="622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808280" y="5319720"/>
            <a:ext cx="12384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08440" y="5184720"/>
            <a:ext cx="622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38600" y="5338800"/>
            <a:ext cx="12384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19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nsor PARAFA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0"/>
          <a:stretch/>
        </p:blipFill>
        <p:spPr>
          <a:xfrm>
            <a:off x="6108840" y="2506680"/>
            <a:ext cx="2689200" cy="420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877080" y="3006720"/>
            <a:ext cx="199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mmi10"/>
              </a:rPr>
              <a:t>w</a:t>
            </a:r>
            <a:r>
              <a:rPr b="0" lang="en-US" sz="1200" spc="-1" strike="noStrike" baseline="-25000">
                <a:solidFill>
                  <a:srgbClr val="000066"/>
                </a:solidFill>
                <a:latin typeface="cmmi10"/>
              </a:rPr>
              <a:t>k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= # unique links using term 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0200" y="5573880"/>
            <a:ext cx="0" cy="70452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0200" y="5573880"/>
            <a:ext cx="68580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7600" y="5275440"/>
            <a:ext cx="380880" cy="30456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AE8-E1F1-436E-947D-FB6B51A2B87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al data are often in high dimensions with multiple aspects (mod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nsors provide elegant theory and algorith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AFAC and Tucker: discover grou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090-C80F-4A69-90C0-68DBBAF23A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. G. Kolda, B. W. Bader and J. P. Kenny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igher-Order Web Link Analysis Using Multilinear Algebr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In: ICDM 2005, Pages 242-249, November 2005.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Times New Roman"/>
              </a:rPr>
              <a:t>Jimeng Su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fr-FR" sz="3200" spc="-1" strike="noStrike">
                <a:solidFill>
                  <a:srgbClr val="000066"/>
                </a:solidFill>
                <a:latin typeface="Times New Roman"/>
              </a:rPr>
              <a:t>Spiros Papadimitrio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Philip Yu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indow-based Tensor Analysis on High-dimensional and Multi-aspect Stream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roc. of the Int. Conf. on Data Mining (ICDM), Hong Kong, China, Dec 2006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5B8-6AF5-462E-919F-9CEE11E7EC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tutorial on tensors, KDD’07 (w/ Tamara Kolda and Jimeng Sun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ww.cs.cmu.edu/~christos/TALKS/KDD-07-tutori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0AF-97F4-417A-9F9F-6ED3E6D760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tools - 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olbox: from Tamara Kold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smr.ca.sandia.gov/~tgkolda/TensorToolbo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6BBE59B4-B8C7-4DC0-9A90-FCC51D65F9F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3" name="Picture 7" descr="kolda"/>
          <p:cNvPicPr/>
          <p:nvPr/>
        </p:nvPicPr>
        <p:blipFill>
          <a:blip r:embed="rId1"/>
          <a:stretch/>
        </p:blipFill>
        <p:spPr>
          <a:xfrm>
            <a:off x="304920" y="1600200"/>
            <a:ext cx="1139760" cy="1424160"/>
          </a:xfrm>
          <a:prstGeom prst="rect">
            <a:avLst/>
          </a:prstGeom>
          <a:ln w="0">
            <a:noFill/>
          </a:ln>
        </p:spPr>
      </p:pic>
      <p:sp>
        <p:nvSpPr>
          <p:cNvPr id="634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A73FA374-7E2E-47A3-BAE9-6BBE87B69AB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726080"/>
            <a:ext cx="9144000" cy="210528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. G. Kolda and B. W. Bader.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Tensor Decompositions and Application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 SIAM Review, Volume 51, Number 3, September 2009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smr.ca.sandia.gov/~tgkolda/pubs/bibtgkfiles/TensorReview-preprint.pd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. Kolda and J. Sun: Scalable Tensor Decomposition for Multi-Aspect Data Mining (ICDM 2008)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6D7-8B78-4133-A3AD-C56577A7BD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52F-F775-45BC-A330-310C4645DA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Author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1640" y="2286000"/>
            <a:ext cx="7396560" cy="2482200"/>
            <a:chOff x="1061640" y="2286000"/>
            <a:chExt cx="7396560" cy="2482200"/>
          </a:xfrm>
        </p:grpSpPr>
        <p:graphicFrame>
          <p:nvGraphicFramePr>
            <p:cNvPr id="108" name=""/>
            <p:cNvGraphicFramePr/>
            <p:nvPr/>
          </p:nvGraphicFramePr>
          <p:xfrm>
            <a:off x="1976400" y="28940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28940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2211840" y="2286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10080" y="2286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0440" y="22860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66000" y="22860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3440" y="240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061640" y="2784600"/>
              <a:ext cx="842040" cy="1983600"/>
              <a:chOff x="1061640" y="2784600"/>
              <a:chExt cx="842040" cy="19836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62360" y="2784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76760" y="31240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61640" y="34290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7840" y="3809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90960" y="43084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709-6F1D-4E0C-8B9A-B75DCFCBCD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at is a tenso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108-2F4B-41F4-97F2-A2F4419E23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N-D generalization of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" y="3657600"/>
            <a:ext cx="8092080" cy="2482200"/>
            <a:chOff x="366120" y="3657600"/>
            <a:chExt cx="8092080" cy="2482200"/>
          </a:xfrm>
        </p:grpSpPr>
        <p:graphicFrame>
          <p:nvGraphicFramePr>
            <p:cNvPr id="126" name=""/>
            <p:cNvGraphicFramePr/>
            <p:nvPr/>
          </p:nvGraphicFramePr>
          <p:xfrm>
            <a:off x="1976400" y="42656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42656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2211840" y="36576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3657600"/>
              <a:ext cx="104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0440" y="3657600"/>
              <a:ext cx="103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66000" y="3657600"/>
              <a:ext cx="639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3440" y="3774960"/>
              <a:ext cx="409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66120" y="4156200"/>
              <a:ext cx="842040" cy="1983600"/>
              <a:chOff x="366120" y="4156200"/>
              <a:chExt cx="842040" cy="1983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66840" y="41562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240" y="44956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6120" y="4800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2320" y="518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5440" y="5680080"/>
                <a:ext cx="4093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471600" y="3565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781-C5AE-492D-AE2C-ED5F71EA7A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N-D generalization of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6120" y="3657600"/>
            <a:ext cx="8092080" cy="2482200"/>
            <a:chOff x="366120" y="3657600"/>
            <a:chExt cx="8092080" cy="2482200"/>
          </a:xfrm>
        </p:grpSpPr>
        <p:graphicFrame>
          <p:nvGraphicFramePr>
            <p:cNvPr id="145" name=""/>
            <p:cNvGraphicFramePr/>
            <p:nvPr/>
          </p:nvGraphicFramePr>
          <p:xfrm>
            <a:off x="1976400" y="42656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42656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2211840" y="36576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0080" y="3657600"/>
              <a:ext cx="104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3657600"/>
              <a:ext cx="103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66000" y="3657600"/>
              <a:ext cx="639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3440" y="3774960"/>
              <a:ext cx="409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6120" y="4156200"/>
              <a:ext cx="842040" cy="1983600"/>
              <a:chOff x="366120" y="4156200"/>
              <a:chExt cx="842040" cy="1983600"/>
            </a:xfrm>
          </p:grpSpPr>
          <p:sp>
            <p:nvSpPr>
              <p:cNvPr id="153" name=""/>
              <p:cNvSpPr/>
              <p:nvPr/>
            </p:nvSpPr>
            <p:spPr>
              <a:xfrm>
                <a:off x="366840" y="41562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1240" y="44956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6120" y="4800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2320" y="518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440" y="5680080"/>
                <a:ext cx="4093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32004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7560" y="26668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4840" y="3565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4CB-6312-4B31-B3B1-23ED71FF5A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s are useful for 3 or more modes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rminology: ‘mode’ (or ‘aspect’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6400" y="42656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42656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11840" y="3657600"/>
            <a:ext cx="68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10080" y="3657600"/>
            <a:ext cx="104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0440" y="3657600"/>
            <a:ext cx="103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3657600"/>
            <a:ext cx="63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53440" y="3774960"/>
            <a:ext cx="40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6477120"/>
            <a:ext cx="9144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3880" y="6172200"/>
            <a:ext cx="3236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 (== aspect) #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257800"/>
            <a:ext cx="0" cy="9144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752480" y="3047760"/>
            <a:ext cx="381240" cy="10666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" y="556272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#2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720" y="313704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#3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C7F-17DD-4688-9CEE-13287FD632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34:34Z</dcterms:modified>
  <cp:revision>188</cp:revision>
  <dc:subject>tensors</dc:subject>
  <dc:title>KDD 09 tutorial</dc:title>
</cp:coreProperties>
</file>