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F48F9-696D-4E62-8E7E-94E6C099C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2E64B-AFEE-4B6F-A0F7-9112FE857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6E738-C125-4992-9670-F728E0807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98C-38FA-4D60-957A-7CC17A9E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55E-DA42-4EEB-83C6-53679034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68E-1B56-4A21-9576-AD1CE1E1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621-7510-4E47-A999-B62159A5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8313-2018-49A3-977F-41E387EA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F72-F1CE-46E3-854A-7D62E315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3A57-67FD-4234-9A67-FCE6DFB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05C-A1C5-461A-A3E9-22FDBBAD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52FC-B29E-405F-ACF9-EF8C68CA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F0C-4A4E-4BBE-9FD1-463C6526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8E81-B0C5-4D60-8B20-25C358F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EF2-7737-4294-BC8C-26EF9E7E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2B41-3EDC-47FE-8DB6-EFFB0D8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6F23-6AA3-45FC-9A2C-CA19993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AC4B-5B93-4A54-B17D-CD9B6763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95E-996A-42E9-9B32-01902F95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17CC-A3C2-4089-B199-904BD6D7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773-1E9B-4D65-BA2A-D358A76D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87C-F968-4DFA-9E4C-3061EED4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3FD-A36F-4056-9DA0-C4CB1829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3E2-7B6F-46C3-8182-6B8C2E2B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587-8CB0-4FCE-BD21-2195394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B0F-99BA-449B-B09B-A920AFB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15F-4C12-4E7F-B85B-D0A9F18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6-</a:t>
            </a:r>
            <a:fld id="{DC7E19A2-7438-4AE0-AD27-9FDC70F59DA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4B571716-7E16-42AF-93EF-2D0CB776A2AB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259-2E16-4F02-A343-E7C23D9BEA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eginning of proof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ealthy @ t+1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( healthy or healed 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and not attacked @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t: p(i , t) = Prob node i is sick @ t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-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(i, t+1 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(1 –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(i, t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(i, t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* </a:t>
            </a:r>
            <a:r>
              <a:rPr b="0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) *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(1 – </a:t>
            </a:r>
            <a:r>
              <a:rPr b="0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ji * p(j , t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low threshold, if the abov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on-linear dynamical system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above is ‘stable’ (eigenvalue of Hessian &lt; 1 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467480" y="0"/>
            <a:ext cx="131472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8EC-F21B-44CC-B6C6-BC84369665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 for various network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mula includes older results as special cases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mogeneous networks [Kephart+White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&lt;k&gt;; τ = 1/&lt;k&gt;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&lt;k&gt; : avg degree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ar networks (d = degree of cente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sqrt(d); τ = 1/ sqrt(d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finite power-law networ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∞; τ = 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; [Barabasi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D9A-EF25-4F70-ABF9-FF771ACBE2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Theorem 2] Below the epidemic threshold, the epidemic dies out exponential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79C-7BCE-43E3-A48A-81138082E9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eri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 detection in e-b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200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58F-01B2-4C5B-8C85-3DE82A4296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urrent prediction vs. previou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5028840"/>
            <a:ext cx="88390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e formula’s predictions are more accura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800840" cy="2762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72160" y="44197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eg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16280" y="4419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47920" y="1447920"/>
            <a:ext cx="1142280" cy="2133360"/>
            <a:chOff x="1447920" y="1447920"/>
            <a:chExt cx="1142280" cy="2133360"/>
          </a:xfrm>
        </p:grpSpPr>
        <p:sp>
          <p:nvSpPr>
            <p:cNvPr id="192" name=""/>
            <p:cNvSpPr/>
            <p:nvPr/>
          </p:nvSpPr>
          <p:spPr>
            <a:xfrm>
              <a:off x="1447920" y="1676520"/>
              <a:ext cx="0" cy="19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51240" y="144792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L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257800" y="1371600"/>
            <a:ext cx="0" cy="2209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981080"/>
            <a:ext cx="0" cy="16002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1981080"/>
            <a:ext cx="0" cy="16002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2133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0" y="1142640"/>
            <a:ext cx="9118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umber of infect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3809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3809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81080"/>
            <a:ext cx="6858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1523880"/>
            <a:ext cx="6858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295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A38-AF34-4742-A827-9C51393FE2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5791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 (Oregon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219320"/>
          <a:ext cx="5867640" cy="49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586764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 flipH="1">
            <a:off x="5257440" y="2286000"/>
            <a:ext cx="1523880" cy="182880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828800"/>
            <a:ext cx="2895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a50021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&gt; </a:t>
            </a:r>
            <a:r>
              <a:rPr b="1" lang="el-GR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τ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above threshol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57800" y="4218120"/>
            <a:ext cx="1309680" cy="658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67480" y="3809880"/>
            <a:ext cx="2805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= </a:t>
            </a:r>
            <a:r>
              <a:rPr b="1" lang="el-GR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τ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at the threshol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57800" y="518148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5181480"/>
            <a:ext cx="2895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&lt;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below threshol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F36-A102-4BB7-9F46-B7FA271D37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16" name="Rectangle 3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876920" cy="4132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427920" y="5562720"/>
            <a:ext cx="290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inear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17812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8B8-2D59-476C-AB03-95E927483D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27" name="Rectangle 3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876920" cy="4132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9280" y="17812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7920" y="5562720"/>
            <a:ext cx="290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inear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743200"/>
            <a:ext cx="533520" cy="2057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680" y="4038480"/>
            <a:ext cx="19119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6F0-96A7-4790-B3AB-3301434E95A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40" name="Rectangle 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43640" y="178128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o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10800" y="5562720"/>
            <a:ext cx="253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FF1-D6DB-48B5-A9FD-24040F80D6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51" name="Rectangle 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610800" y="5562720"/>
            <a:ext cx="253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2514600"/>
            <a:ext cx="1447920" cy="45720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3640" y="178128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o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99840" y="3581280"/>
            <a:ext cx="172620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-la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ay (!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395-14D4-4598-85FC-09ECD1C533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F73-0D62-4EC9-BE3B-9A122FC098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 detection in e-b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2096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FCB-29F3-4FB5-80E1-667455555A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-bay Fraud detec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68" name="Rectangle 3" descr=""/>
          <p:cNvPicPr/>
          <p:nvPr/>
        </p:nvPicPr>
        <p:blipFill>
          <a:blip r:embed="rId1"/>
          <a:stretch/>
        </p:blipFill>
        <p:spPr>
          <a:xfrm>
            <a:off x="733320" y="1636560"/>
            <a:ext cx="912960" cy="1212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69" idx="4"/>
            <a:endCxn id="273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5" name=""/>
          <p:cNvCxnSpPr>
            <a:stCxn id="269" idx="4"/>
            <a:endCxn id="276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6" name=""/>
          <p:cNvCxnSpPr>
            <a:stCxn id="269" idx="5"/>
            <a:endCxn id="274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7" name=""/>
          <p:cNvCxnSpPr>
            <a:stCxn id="269" idx="6"/>
            <a:endCxn id="275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8" name=""/>
          <p:cNvCxnSpPr>
            <a:stCxn id="269" idx="6"/>
            <a:endCxn id="277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9" name=""/>
          <p:cNvCxnSpPr>
            <a:stCxn id="272" idx="4"/>
            <a:endCxn id="276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0" name=""/>
          <p:cNvCxnSpPr>
            <a:stCxn id="272" idx="3"/>
            <a:endCxn id="273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1" name=""/>
          <p:cNvCxnSpPr>
            <a:stCxn id="270" idx="3"/>
            <a:endCxn id="273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2" name=""/>
          <p:cNvCxnSpPr>
            <a:stCxn id="271" idx="3"/>
            <a:endCxn id="273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3" name=""/>
          <p:cNvCxnSpPr>
            <a:stCxn id="271" idx="5"/>
            <a:endCxn id="277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4" name=""/>
          <p:cNvCxnSpPr>
            <a:stCxn id="271" idx="4"/>
            <a:endCxn id="275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5" name=""/>
          <p:cNvCxnSpPr>
            <a:stCxn id="271" idx="3"/>
            <a:endCxn id="274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6" name=""/>
          <p:cNvCxnSpPr>
            <a:stCxn id="270" idx="4"/>
            <a:endCxn id="276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7" name=""/>
          <p:cNvCxnSpPr>
            <a:stCxn id="270" idx="4"/>
            <a:endCxn id="274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8" name=""/>
          <p:cNvCxnSpPr>
            <a:stCxn id="270" idx="4"/>
            <a:endCxn id="275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9" name=""/>
          <p:cNvCxnSpPr>
            <a:stCxn id="270" idx="5"/>
            <a:endCxn id="277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0" name=""/>
          <p:cNvCxnSpPr>
            <a:stCxn id="272" idx="5"/>
            <a:endCxn id="274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1" name=""/>
          <p:cNvCxnSpPr>
            <a:stCxn id="272" idx="6"/>
            <a:endCxn id="275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2" name=""/>
          <p:cNvCxnSpPr>
            <a:stCxn id="272" idx="6"/>
            <a:endCxn id="277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3" name=""/>
          <p:cNvCxnSpPr>
            <a:stCxn id="273" idx="4"/>
            <a:endCxn id="278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4" name=""/>
          <p:cNvCxnSpPr>
            <a:stCxn id="276" idx="4"/>
            <a:endCxn id="279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5" name=""/>
          <p:cNvCxnSpPr>
            <a:stCxn id="275" idx="4"/>
            <a:endCxn id="280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6" name=""/>
          <p:cNvCxnSpPr>
            <a:stCxn id="274" idx="4"/>
            <a:endCxn id="282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7" name=""/>
          <p:cNvCxnSpPr>
            <a:stCxn id="277" idx="4"/>
            <a:endCxn id="282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8" name=""/>
          <p:cNvCxnSpPr>
            <a:stCxn id="278" idx="4"/>
            <a:endCxn id="281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9" name=""/>
          <p:cNvCxnSpPr>
            <a:stCxn id="279" idx="5"/>
            <a:endCxn id="283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275400" y="3205080"/>
            <a:ext cx="40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/ Polo Chau &amp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hashank Pandit, 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1" name="Rectangle 3" descr=""/>
          <p:cNvPicPr/>
          <p:nvPr/>
        </p:nvPicPr>
        <p:blipFill>
          <a:blip r:embed="rId2"/>
          <a:srcRect l="5274" t="0" r="17580" b="0"/>
          <a:stretch/>
        </p:blipFill>
        <p:spPr>
          <a:xfrm>
            <a:off x="2035080" y="1712880"/>
            <a:ext cx="1089000" cy="1112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5684760"/>
            <a:ext cx="9144000" cy="1099440"/>
          </a:xfrm>
          <a:prstGeom prst="rect">
            <a:avLst/>
          </a:prstGeom>
          <a:solidFill>
            <a:srgbClr val="ffff66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tProbe: A Fast and Scalable System for Fraud Detection in Online Auction Network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, S. Pandit, D. H. Chau, S. Wang, and C. Faloutsos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 (WWW'07),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pp. 201-210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663-1E84-4D22-96A2-239ADB904A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-bay Fraud detec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15" idx="4"/>
            <a:endCxn id="319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1" name=""/>
          <p:cNvCxnSpPr>
            <a:stCxn id="315" idx="4"/>
            <a:endCxn id="322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2" name=""/>
          <p:cNvCxnSpPr>
            <a:stCxn id="315" idx="5"/>
            <a:endCxn id="320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3" name=""/>
          <p:cNvCxnSpPr>
            <a:stCxn id="315" idx="6"/>
            <a:endCxn id="321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4" name=""/>
          <p:cNvCxnSpPr>
            <a:stCxn id="315" idx="6"/>
            <a:endCxn id="323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5" name=""/>
          <p:cNvCxnSpPr>
            <a:stCxn id="318" idx="4"/>
            <a:endCxn id="322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6" name=""/>
          <p:cNvCxnSpPr>
            <a:stCxn id="318" idx="3"/>
            <a:endCxn id="319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7" name=""/>
          <p:cNvCxnSpPr>
            <a:stCxn id="316" idx="3"/>
            <a:endCxn id="319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8" name=""/>
          <p:cNvCxnSpPr>
            <a:stCxn id="317" idx="3"/>
            <a:endCxn id="319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9" name=""/>
          <p:cNvCxnSpPr>
            <a:stCxn id="317" idx="5"/>
            <a:endCxn id="323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0" name=""/>
          <p:cNvCxnSpPr>
            <a:stCxn id="317" idx="4"/>
            <a:endCxn id="321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1" name=""/>
          <p:cNvCxnSpPr>
            <a:stCxn id="317" idx="3"/>
            <a:endCxn id="320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2" name=""/>
          <p:cNvCxnSpPr>
            <a:stCxn id="316" idx="4"/>
            <a:endCxn id="322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3" name=""/>
          <p:cNvCxnSpPr>
            <a:stCxn id="316" idx="4"/>
            <a:endCxn id="320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4" name=""/>
          <p:cNvCxnSpPr>
            <a:stCxn id="316" idx="4"/>
            <a:endCxn id="321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5" name=""/>
          <p:cNvCxnSpPr>
            <a:stCxn id="316" idx="5"/>
            <a:endCxn id="323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6" name=""/>
          <p:cNvCxnSpPr>
            <a:stCxn id="318" idx="5"/>
            <a:endCxn id="320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7" name=""/>
          <p:cNvCxnSpPr>
            <a:stCxn id="318" idx="6"/>
            <a:endCxn id="321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8" name=""/>
          <p:cNvCxnSpPr>
            <a:stCxn id="318" idx="6"/>
            <a:endCxn id="323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9" name=""/>
          <p:cNvCxnSpPr>
            <a:stCxn id="319" idx="4"/>
            <a:endCxn id="324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0" name=""/>
          <p:cNvCxnSpPr>
            <a:stCxn id="322" idx="4"/>
            <a:endCxn id="325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1" name=""/>
          <p:cNvCxnSpPr>
            <a:stCxn id="321" idx="4"/>
            <a:endCxn id="326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2" name=""/>
          <p:cNvCxnSpPr>
            <a:stCxn id="320" idx="4"/>
            <a:endCxn id="328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3" name=""/>
          <p:cNvCxnSpPr>
            <a:stCxn id="323" idx="4"/>
            <a:endCxn id="328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4" name=""/>
          <p:cNvCxnSpPr>
            <a:stCxn id="324" idx="4"/>
            <a:endCxn id="327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5" name=""/>
          <p:cNvCxnSpPr>
            <a:stCxn id="325" idx="5"/>
            <a:endCxn id="329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646920" y="1827360"/>
            <a:ext cx="4434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nes: positive feedback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ould you buy from  him/her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92840" y="2903400"/>
            <a:ext cx="507960" cy="5256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21200" y="2684520"/>
            <a:ext cx="957240" cy="30492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4A6-C231-47C9-8694-D31E880057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-bay Fraud detec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1" idx="4"/>
            <a:endCxn id="365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77" name=""/>
          <p:cNvCxnSpPr>
            <a:stCxn id="361" idx="4"/>
            <a:endCxn id="368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78" name=""/>
          <p:cNvCxnSpPr>
            <a:stCxn id="361" idx="5"/>
            <a:endCxn id="366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79" name=""/>
          <p:cNvCxnSpPr>
            <a:stCxn id="361" idx="6"/>
            <a:endCxn id="367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0" name=""/>
          <p:cNvCxnSpPr>
            <a:stCxn id="361" idx="6"/>
            <a:endCxn id="369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1" name=""/>
          <p:cNvCxnSpPr>
            <a:stCxn id="364" idx="4"/>
            <a:endCxn id="368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2" name=""/>
          <p:cNvCxnSpPr>
            <a:stCxn id="364" idx="3"/>
            <a:endCxn id="365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3" name=""/>
          <p:cNvCxnSpPr>
            <a:stCxn id="362" idx="3"/>
            <a:endCxn id="365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4" name=""/>
          <p:cNvCxnSpPr>
            <a:stCxn id="363" idx="3"/>
            <a:endCxn id="365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5" name=""/>
          <p:cNvCxnSpPr>
            <a:stCxn id="363" idx="5"/>
            <a:endCxn id="369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6" name=""/>
          <p:cNvCxnSpPr>
            <a:stCxn id="363" idx="4"/>
            <a:endCxn id="367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7" name=""/>
          <p:cNvCxnSpPr>
            <a:stCxn id="363" idx="3"/>
            <a:endCxn id="366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8" name=""/>
          <p:cNvCxnSpPr>
            <a:stCxn id="362" idx="4"/>
            <a:endCxn id="368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9" name=""/>
          <p:cNvCxnSpPr>
            <a:stCxn id="362" idx="4"/>
            <a:endCxn id="366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0" name=""/>
          <p:cNvCxnSpPr>
            <a:stCxn id="362" idx="4"/>
            <a:endCxn id="367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1" name=""/>
          <p:cNvCxnSpPr>
            <a:stCxn id="362" idx="5"/>
            <a:endCxn id="369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2" name=""/>
          <p:cNvCxnSpPr>
            <a:stCxn id="364" idx="5"/>
            <a:endCxn id="366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3" name=""/>
          <p:cNvCxnSpPr>
            <a:stCxn id="364" idx="6"/>
            <a:endCxn id="367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4" name=""/>
          <p:cNvCxnSpPr>
            <a:stCxn id="364" idx="6"/>
            <a:endCxn id="369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5" name=""/>
          <p:cNvCxnSpPr>
            <a:stCxn id="365" idx="4"/>
            <a:endCxn id="370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6" name=""/>
          <p:cNvCxnSpPr>
            <a:stCxn id="368" idx="4"/>
            <a:endCxn id="371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7" name=""/>
          <p:cNvCxnSpPr>
            <a:stCxn id="367" idx="4"/>
            <a:endCxn id="372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8" name=""/>
          <p:cNvCxnSpPr>
            <a:stCxn id="366" idx="4"/>
            <a:endCxn id="374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9" name=""/>
          <p:cNvCxnSpPr>
            <a:stCxn id="369" idx="4"/>
            <a:endCxn id="374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00" name=""/>
          <p:cNvCxnSpPr>
            <a:stCxn id="370" idx="4"/>
            <a:endCxn id="373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01" name=""/>
          <p:cNvCxnSpPr>
            <a:stCxn id="371" idx="5"/>
            <a:endCxn id="375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646920" y="1827360"/>
            <a:ext cx="4434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nes: positive feedback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ould you buy from  him/her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or him/her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6480" y="4856040"/>
            <a:ext cx="507960" cy="5256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75000" y="3638520"/>
            <a:ext cx="1871640" cy="1278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235-E387-47DD-B12C-95C87510CD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E-bay Fraud detection - NetProb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07" name="Rectangle 3" descr=""/>
          <p:cNvPicPr/>
          <p:nvPr/>
        </p:nvPicPr>
        <p:blipFill>
          <a:blip r:embed="rId1"/>
          <a:stretch/>
        </p:blipFill>
        <p:spPr>
          <a:xfrm>
            <a:off x="735120" y="1922400"/>
            <a:ext cx="3057480" cy="4114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08" idx="4"/>
            <a:endCxn id="412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4" name=""/>
          <p:cNvCxnSpPr>
            <a:stCxn id="408" idx="4"/>
            <a:endCxn id="415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5" name=""/>
          <p:cNvCxnSpPr>
            <a:stCxn id="408" idx="5"/>
            <a:endCxn id="413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6" name=""/>
          <p:cNvCxnSpPr>
            <a:stCxn id="408" idx="6"/>
            <a:endCxn id="414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7" name=""/>
          <p:cNvCxnSpPr>
            <a:stCxn id="408" idx="6"/>
            <a:endCxn id="416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8" name=""/>
          <p:cNvCxnSpPr>
            <a:stCxn id="411" idx="4"/>
            <a:endCxn id="415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9" name=""/>
          <p:cNvCxnSpPr>
            <a:stCxn id="411" idx="3"/>
            <a:endCxn id="412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0" name=""/>
          <p:cNvCxnSpPr>
            <a:stCxn id="409" idx="3"/>
            <a:endCxn id="412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1" name=""/>
          <p:cNvCxnSpPr>
            <a:stCxn id="410" idx="3"/>
            <a:endCxn id="412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2" name=""/>
          <p:cNvCxnSpPr>
            <a:stCxn id="410" idx="5"/>
            <a:endCxn id="416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3" name=""/>
          <p:cNvCxnSpPr>
            <a:stCxn id="410" idx="4"/>
            <a:endCxn id="414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4" name=""/>
          <p:cNvCxnSpPr>
            <a:stCxn id="410" idx="3"/>
            <a:endCxn id="413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5" name=""/>
          <p:cNvCxnSpPr>
            <a:stCxn id="409" idx="4"/>
            <a:endCxn id="415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6" name=""/>
          <p:cNvCxnSpPr>
            <a:stCxn id="409" idx="4"/>
            <a:endCxn id="413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7" name=""/>
          <p:cNvCxnSpPr>
            <a:stCxn id="409" idx="4"/>
            <a:endCxn id="414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8" name=""/>
          <p:cNvCxnSpPr>
            <a:stCxn id="409" idx="5"/>
            <a:endCxn id="416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9" name=""/>
          <p:cNvCxnSpPr>
            <a:stCxn id="411" idx="5"/>
            <a:endCxn id="413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0" name=""/>
          <p:cNvCxnSpPr>
            <a:stCxn id="411" idx="6"/>
            <a:endCxn id="414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1" name=""/>
          <p:cNvCxnSpPr>
            <a:stCxn id="411" idx="6"/>
            <a:endCxn id="416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2" name=""/>
          <p:cNvCxnSpPr>
            <a:stCxn id="412" idx="4"/>
            <a:endCxn id="417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3" name=""/>
          <p:cNvCxnSpPr>
            <a:stCxn id="415" idx="4"/>
            <a:endCxn id="418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4" name=""/>
          <p:cNvCxnSpPr>
            <a:stCxn id="414" idx="4"/>
            <a:endCxn id="419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5" name=""/>
          <p:cNvCxnSpPr>
            <a:stCxn id="413" idx="4"/>
            <a:endCxn id="421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6" name=""/>
          <p:cNvCxnSpPr>
            <a:stCxn id="416" idx="4"/>
            <a:endCxn id="421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7" name=""/>
          <p:cNvCxnSpPr>
            <a:stCxn id="417" idx="4"/>
            <a:endCxn id="420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8" name=""/>
          <p:cNvCxnSpPr>
            <a:stCxn id="418" idx="5"/>
            <a:endCxn id="422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449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1828800"/>
            <a:ext cx="38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elief Propagation gives: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5EF-2AA3-4DE7-A75C-3FC0AF12A4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32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igenvalue of adjacency matrix determines the survival of a flu-like vir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 gives a measure of how well connected is the graph (~ # paths – see Task 7, lat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y guide immunization polic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Belief Propagation: a powerful algo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17B-AB60-4236-82C8-8625B739AA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. Chakrabarti, Y. Wang, C. Wang, J. Leskovec, and C. Faloutsos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Epidemic Thresholds in Real Network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in ACM TISSEC, 10(4), 2008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anesh, A., Massoulie, L., and Towsley, D., 2005. The effect of network topology on the spread of epidemics. In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NFOCO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C36-8865-41AA-9A70-A469836098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 (cont’d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thcote, H. W. 2000. The mathematics of infectious diseases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IAM Review 4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599–653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thcote, H. W. AND Yorke, J. A. 1984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Gonorrhea Transmission Dynamics and Contro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Vol. 56. Springer. Lecture Notes in Biomathematic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BF4-CC12-4768-9DBA-22DE9B4EEE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 (cont’d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. Wang, D. Chakrabarti, C. Wang and C. Faloutsos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Epidemic Spreading in Real Networks: An Eigenvalue Viewpoi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in SRDS 2003 (pages 25-34), Florence, Italy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3FC-0733-42B7-9914-393A5A5AC2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eri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 detection in e-b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0D2-94BD-446C-BCF5-D3BA87E633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Virus propaga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do viruses/rumors  propagat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log influenc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l a flu-like virus linger, or will it become extinct soon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FE4-956E-45A3-91FF-86ED73A5F2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9160"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The model: SI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lu’ like: Susceptible-Infected-Suscepti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irus ‘strength’ s=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724280"/>
            <a:ext cx="609840" cy="5335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5486400"/>
            <a:ext cx="609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4724280"/>
            <a:ext cx="60948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3809880"/>
            <a:ext cx="609480" cy="5335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029200"/>
            <a:ext cx="1295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00600" y="4190760"/>
            <a:ext cx="106668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181480"/>
            <a:ext cx="106668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4120"/>
            <a:ext cx="1523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f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3429000"/>
            <a:ext cx="167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ealth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724280"/>
            <a:ext cx="30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4724280"/>
            <a:ext cx="609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5486400"/>
            <a:ext cx="6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809880"/>
            <a:ext cx="609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724280"/>
            <a:ext cx="6098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71800" y="4267080"/>
            <a:ext cx="3381120" cy="1230120"/>
            <a:chOff x="2971800" y="4267080"/>
            <a:chExt cx="3381120" cy="1230120"/>
          </a:xfrm>
        </p:grpSpPr>
        <p:sp>
          <p:nvSpPr>
            <p:cNvPr id="121" name=""/>
            <p:cNvSpPr/>
            <p:nvPr/>
          </p:nvSpPr>
          <p:spPr>
            <a:xfrm>
              <a:off x="3276720" y="4724280"/>
              <a:ext cx="838080" cy="152280"/>
            </a:xfrm>
            <a:prstGeom prst="rightArrow">
              <a:avLst>
                <a:gd name="adj1" fmla="val 50000"/>
                <a:gd name="adj2" fmla="val 137589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0880" bIns="2088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2187800">
              <a:off x="4952520" y="5180760"/>
              <a:ext cx="838440" cy="152280"/>
            </a:xfrm>
            <a:prstGeom prst="rightArrow">
              <a:avLst>
                <a:gd name="adj1" fmla="val 50000"/>
                <a:gd name="adj2" fmla="val 137648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0880" bIns="2088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4267080"/>
              <a:ext cx="1295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236000">
              <a:off x="5027400" y="4875840"/>
              <a:ext cx="1295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β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9880" y="3809880"/>
            <a:ext cx="1219320" cy="838080"/>
            <a:chOff x="3809880" y="3809880"/>
            <a:chExt cx="1219320" cy="838080"/>
          </a:xfrm>
        </p:grpSpPr>
        <p:grpSp>
          <p:nvGrpSpPr>
            <p:cNvPr id="126" name=""/>
            <p:cNvGrpSpPr/>
            <p:nvPr/>
          </p:nvGrpSpPr>
          <p:grpSpPr>
            <a:xfrm>
              <a:off x="4267080" y="4267080"/>
              <a:ext cx="380880" cy="380880"/>
              <a:chOff x="4267080" y="4267080"/>
              <a:chExt cx="38088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4419360" y="4267080"/>
                <a:ext cx="7632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67080" y="4419360"/>
                <a:ext cx="38088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26280" bIns="2628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67080" y="4267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809880" y="3809880"/>
              <a:ext cx="1219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4FE-A67F-4487-9442-FA6070942C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f a graph: the value of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such th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  strength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 =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/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&lt; 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 epidemic can not happe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us,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ute its 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E47-AF3A-45E0-9AE3-3AD32A1D39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should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epend on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vg. degree? and/or highest degree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/or variance of degre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/or third moment of degre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/or diameter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5320" y="4648320"/>
            <a:ext cx="1371600" cy="1295280"/>
            <a:chOff x="3505320" y="4648320"/>
            <a:chExt cx="1371600" cy="1295280"/>
          </a:xfrm>
        </p:grpSpPr>
        <p:sp>
          <p:nvSpPr>
            <p:cNvPr id="136" name=""/>
            <p:cNvSpPr/>
            <p:nvPr/>
          </p:nvSpPr>
          <p:spPr>
            <a:xfrm>
              <a:off x="3962520" y="52578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4876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55627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51818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9" idx="1"/>
              <a:endCxn id="137" idx="5"/>
            </p:cNvCxnSpPr>
            <p:nvPr/>
          </p:nvCxnSpPr>
          <p:spPr>
            <a:xfrm flipH="1" flipV="1">
              <a:off x="4244760" y="5019480"/>
              <a:ext cx="197280" cy="17208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41" name=""/>
            <p:cNvCxnSpPr>
              <a:stCxn id="138" idx="0"/>
              <a:endCxn id="139" idx="3"/>
            </p:cNvCxnSpPr>
            <p:nvPr/>
          </p:nvCxnSpPr>
          <p:spPr>
            <a:xfrm flipV="1">
              <a:off x="4343040" y="5324400"/>
              <a:ext cx="99000" cy="22608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42" name=""/>
            <p:cNvCxnSpPr>
              <a:stCxn id="136" idx="5"/>
              <a:endCxn id="138" idx="0"/>
            </p:cNvCxnSpPr>
            <p:nvPr/>
          </p:nvCxnSpPr>
          <p:spPr>
            <a:xfrm>
              <a:off x="4092120" y="5400360"/>
              <a:ext cx="251640" cy="1501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143" name=""/>
            <p:cNvSpPr/>
            <p:nvPr/>
          </p:nvSpPr>
          <p:spPr>
            <a:xfrm>
              <a:off x="3505320" y="4648320"/>
              <a:ext cx="1371600" cy="12952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943600" y="4572000"/>
            <a:ext cx="1371600" cy="1295280"/>
            <a:chOff x="5943600" y="4572000"/>
            <a:chExt cx="1371600" cy="1295280"/>
          </a:xfrm>
        </p:grpSpPr>
        <p:sp>
          <p:nvSpPr>
            <p:cNvPr id="145" name=""/>
            <p:cNvSpPr/>
            <p:nvPr/>
          </p:nvSpPr>
          <p:spPr>
            <a:xfrm>
              <a:off x="6172200" y="51055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34320" y="52578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120" y="4876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5562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7" idx="1"/>
              <a:endCxn id="145" idx="7"/>
            </p:cNvCxnSpPr>
            <p:nvPr/>
          </p:nvCxnSpPr>
          <p:spPr>
            <a:xfrm flipH="1">
              <a:off x="6302160" y="4885920"/>
              <a:ext cx="197280" cy="2293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50" name=""/>
            <p:cNvCxnSpPr>
              <a:stCxn id="147" idx="5"/>
              <a:endCxn id="146" idx="1"/>
            </p:cNvCxnSpPr>
            <p:nvPr/>
          </p:nvCxnSpPr>
          <p:spPr>
            <a:xfrm>
              <a:off x="6607080" y="5019480"/>
              <a:ext cx="349920" cy="2480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51" name=""/>
            <p:cNvCxnSpPr>
              <a:stCxn id="147" idx="4"/>
              <a:endCxn id="148" idx="1"/>
            </p:cNvCxnSpPr>
            <p:nvPr/>
          </p:nvCxnSpPr>
          <p:spPr>
            <a:xfrm>
              <a:off x="6553080" y="5041440"/>
              <a:ext cx="99360" cy="53100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5943600" y="4572000"/>
              <a:ext cx="1371600" cy="12952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66680" y="4724280"/>
            <a:ext cx="1371600" cy="1295280"/>
            <a:chOff x="1066680" y="4724280"/>
            <a:chExt cx="1371600" cy="1295280"/>
          </a:xfrm>
        </p:grpSpPr>
        <p:sp>
          <p:nvSpPr>
            <p:cNvPr id="154" name=""/>
            <p:cNvSpPr/>
            <p:nvPr/>
          </p:nvSpPr>
          <p:spPr>
            <a:xfrm>
              <a:off x="1295280" y="5105160"/>
              <a:ext cx="152640" cy="152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7400" y="5333760"/>
              <a:ext cx="152280" cy="152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792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8800" y="5029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6680" y="4724280"/>
              <a:ext cx="1371600" cy="12952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06D-B08C-42FE-A117-53C6D8ABCC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[Theorem 1] We have no epidemic, if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276720"/>
            <a:ext cx="373392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4880" y="3502080"/>
            <a:ext cx="32209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0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0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71F-C058-4530-BA3B-5BE3028B28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[Theorem 1] We have no epidemic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*)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, if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276720"/>
            <a:ext cx="373392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94880" y="3502080"/>
            <a:ext cx="32209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0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0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2400" y="4486320"/>
            <a:ext cx="275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largest eigenvalu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f adj. matrix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04720" y="4597560"/>
            <a:ext cx="1861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ttack prob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819520"/>
            <a:ext cx="2438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overy prob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4190760"/>
            <a:ext cx="304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035160"/>
            <a:ext cx="914400" cy="546120"/>
          </a:xfrm>
          <a:custGeom>
            <a:avLst/>
            <a:gdLst/>
            <a:ahLst/>
            <a:rect l="l" t="t" r="r" b="b"/>
            <a:pathLst>
              <a:path w="576" h="344">
                <a:moveTo>
                  <a:pt x="0" y="8"/>
                </a:moveTo>
                <a:cubicBezTo>
                  <a:pt x="168" y="4"/>
                  <a:pt x="336" y="0"/>
                  <a:pt x="432" y="56"/>
                </a:cubicBezTo>
                <a:cubicBezTo>
                  <a:pt x="528" y="112"/>
                  <a:pt x="552" y="228"/>
                  <a:pt x="576" y="344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943600" y="4114800"/>
            <a:ext cx="76320" cy="4572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92320" y="2581200"/>
            <a:ext cx="2899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00240" y="3124080"/>
            <a:ext cx="1522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040" y="5353200"/>
            <a:ext cx="684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of: [Wang+03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*) under mild, conditional-independence assump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29F-9339-4001-8477-0C3B469FA6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os</cp:lastModifiedBy>
  <dcterms:modified xsi:type="dcterms:W3CDTF">2009-06-05T15:35:50Z</dcterms:modified>
  <cp:revision>20</cp:revision>
  <dc:subject>virus propagation</dc:subject>
  <dc:title>KDD09 tutorial</dc:title>
</cp:coreProperties>
</file>