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8585C0-7263-4856-AFD5-424205BD0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910DB58-6155-481F-BB77-50B994E8A43B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BF23C48-CBB3-46F3-8FDC-12CC5E8CAAD5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EA357DB-E820-461E-945D-2F627F024F7E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715138F-C3CF-4E36-A7A4-5A17F434113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B70-4EA0-449C-92F1-BE77FE94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519-2F00-4F87-9702-5A71296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74A-74F4-4818-86E7-058BB74B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202-FE35-4558-AAAB-8AEE7685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D20-1056-4E09-B881-E1D669A4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DAB-4A01-4581-9C62-3E4A2D8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FD9D-FEEC-4A04-995F-73359075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90BD-DFE4-4DDF-B30E-F2CB7022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D0FD-54BD-41DA-8FDF-C821359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357-2149-4848-A5BC-334E24B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7A2-D118-4351-B8FE-E93CBA2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8EC-F439-4539-9A6C-04D8912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BAB-E58A-4A7B-9B49-EA48835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283-BB89-453D-BB24-13F9401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4885-85B6-4E30-B1B4-D4E1F9C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DF0B-7698-4AC6-ADD3-DAF4947E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544D-4F9C-45FD-9F63-7A5E0D09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CE7D-3F0E-4E7A-B11F-20C0F226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3B5C-3A97-4CA0-B37C-65BF3E3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19EB-B701-46BC-9AF2-74DA878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D387-8676-432A-B608-BF1CE7A8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7771-E8D8-4A0C-908D-398CDC6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F13-2010-4350-8247-F667D8D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269B-272A-4CEC-976D-EEC6B79D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D221-62B9-475A-874F-8CB368B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5503-2AAB-4521-8A99-B1AC182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DC1D-7082-4582-81E1-BDFE5BA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2D87-CBB3-4632-8523-6319E2F9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5546-741B-4DD9-A209-7601228C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3795-9FC0-4E99-AA5D-B32C07A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95BC-D54C-493E-A1B0-E9A1C4BB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8969-B78D-4523-8802-594368E5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39F7-4381-472F-AC31-9F14E82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045-4AD3-47D2-8C39-70C87F93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50D7-981C-44EF-B762-379CFACE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056A-35B3-447B-BA99-61EAE030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854C-9A5E-4820-B5A0-29EEEC9D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51F4-314A-4093-B85C-6733E2E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A73C-66B2-4F3A-BA8D-1505D71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EF78-069C-4D0D-B43F-D266EA3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D305-73DF-4CCC-A6DC-ABDC7A23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140E-D903-4B69-9140-2C2E557E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14CD-199A-475E-8EB1-D5D9EFE8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419-D0BA-4E2D-82CF-79E95646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D51-949C-4E0D-8744-C47677E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4AF-7842-4A80-8CDC-4DC23783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815-2B1D-47EF-93A9-EE793E6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645-5C38-411B-BA27-432D7D36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EB136E03-B2E5-4B57-9CD3-288C59C89E2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368C5073-A091-4457-AF17-4315272050A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303CC1E2-4C19-4126-A769-D02764A3A89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6F717A08-8E2A-4F0F-B9C4-955385B784A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doop.apache.org/core/" TargetMode="External"/><Relationship Id="rId2" Type="http://schemas.openxmlformats.org/officeDocument/2006/relationships/hyperlink" Target="http://hadoop.apache.org/pig/" TargetMode="External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abs.google.com/people/jeff/" TargetMode="External"/><Relationship Id="rId2" Type="http://schemas.openxmlformats.org/officeDocument/2006/relationships/hyperlink" Target="http://labs.google.com/people/sanjay/" TargetMode="External"/><Relationship Id="rId3" Type="http://schemas.openxmlformats.org/officeDocument/2006/relationships/hyperlink" Target="http://labs.google.com/people/sanjay/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adoop.apache.org/" TargetMode="External"/><Relationship Id="rId2" Type="http://schemas.openxmlformats.org/officeDocument/2006/relationships/hyperlink" Target="http://hadoop.apache.org/" TargetMode="External"/><Relationship Id="rId3" Type="http://schemas.openxmlformats.org/officeDocument/2006/relationships/hyperlink" Target="http://hadoop.apache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8: hadoop and Tera/Peta byte 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9DB0-8957-4591-9CD5-24A53AE93E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.I.S.C.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3915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 Intensive Scientific Computing’ [R. Bryant, CMU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ig data’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ww.cs.cmu.edu/~bryant/pubdir/cmu-cs-07-128.pd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4" name="Picture 4" descr="bryant-02"/>
          <p:cNvPicPr/>
          <p:nvPr/>
        </p:nvPicPr>
        <p:blipFill>
          <a:blip r:embed="rId1"/>
          <a:stretch/>
        </p:blipFill>
        <p:spPr>
          <a:xfrm>
            <a:off x="380880" y="1523880"/>
            <a:ext cx="1001880" cy="10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3ECC-E97B-4F62-B088-808B23D0F9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~200Gb (Yahoo crawl) - Degree Distributio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in 12 minutes with 50 mach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Many link spams at out-degree 12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3505320"/>
            <a:ext cx="7580520" cy="2652480"/>
            <a:chOff x="838080" y="3505320"/>
            <a:chExt cx="7580520" cy="265248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838080" y="3505320"/>
              <a:ext cx="7580520" cy="26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90080" y="457092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1960" y="495180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alysis of a large graph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3CC-6E24-49C9-9D3D-B8DDC99AB4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doop: promising architecture for Tera/Peta scale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ourc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hadoop.apache.org/core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hadoop.apache.org/pig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gher-level language for data 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9C95-72C9-473A-A3B9-19326262C8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Jeffrey Dea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Sanjay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Ghemaw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apReduce: Simplified Data Processing on Large Clusters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SDI'04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ristopher Olston, Benjamin Reed, Utkarsh Srivastava, Ravi Kumar, Andrew Tomkins: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ig latin: a not-so-foreign language for data process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SIGMOD 2008: 1099-1110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8680-5D78-46B6-9E9F-7E0104BEDE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8769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5AC4-03C5-4107-B5DE-109B0C8A93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C20-9A1B-4A31-80AB-001E20FF06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‘MET’: Kolda, Sun, ICMD’08, best paper award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F7A-B538-4443-A245-BF92DD3A69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B715-0DA8-4C47-8E64-9269AF26F6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map/reduce – hadoop (open-source clone)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hadoop.apache.org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5" descr="hadoop-logo"/>
          <p:cNvPicPr/>
          <p:nvPr/>
        </p:nvPicPr>
        <p:blipFill>
          <a:blip r:embed="rId4"/>
          <a:stretch/>
        </p:blipFill>
        <p:spPr>
          <a:xfrm>
            <a:off x="3451320" y="5630760"/>
            <a:ext cx="1834920" cy="4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AC9B-14EF-46F4-9B29-6177045E9A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C5C-554C-4D9F-873E-EDC0B30E42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77600" y="561168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ma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210720" y="4648320"/>
            <a:ext cx="119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re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468600" y="5105520"/>
            <a:ext cx="127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98480" y="5996160"/>
            <a:ext cx="13780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568-8E49-4FA0-A464-DAA7C2EF48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4"/>
          <p:cNvSpPr/>
          <p:nvPr/>
        </p:nvSpPr>
        <p:spPr>
          <a:xfrm>
            <a:off x="3657600" y="304920"/>
            <a:ext cx="1447920" cy="6858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Pro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5638680" y="396252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24"/>
          <p:cNvSpPr/>
          <p:nvPr/>
        </p:nvSpPr>
        <p:spPr>
          <a:xfrm>
            <a:off x="5638680" y="297180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3886200" y="1676520"/>
            <a:ext cx="990720" cy="4572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s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66"/>
          <p:cNvGrpSpPr/>
          <p:nvPr/>
        </p:nvGrpSpPr>
        <p:grpSpPr>
          <a:xfrm>
            <a:off x="1981080" y="838080"/>
            <a:ext cx="4114800" cy="3962160"/>
            <a:chOff x="1981080" y="838080"/>
            <a:chExt cx="4114800" cy="3962160"/>
          </a:xfrm>
        </p:grpSpPr>
        <p:grpSp>
          <p:nvGrpSpPr>
            <p:cNvPr id="210" name="Group 65"/>
            <p:cNvGrpSpPr/>
            <p:nvPr/>
          </p:nvGrpSpPr>
          <p:grpSpPr>
            <a:xfrm>
              <a:off x="1981080" y="2666880"/>
              <a:ext cx="990720" cy="2133360"/>
              <a:chOff x="1981080" y="2666880"/>
              <a:chExt cx="990720" cy="2133360"/>
            </a:xfrm>
          </p:grpSpPr>
          <p:sp>
            <p:nvSpPr>
              <p:cNvPr id="211" name="Oval 6"/>
              <p:cNvSpPr/>
              <p:nvPr/>
            </p:nvSpPr>
            <p:spPr>
              <a:xfrm>
                <a:off x="1981080" y="266688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Oval 7"/>
              <p:cNvSpPr/>
              <p:nvPr/>
            </p:nvSpPr>
            <p:spPr>
              <a:xfrm>
                <a:off x="1981080" y="350496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Oval 8"/>
              <p:cNvSpPr/>
              <p:nvPr/>
            </p:nvSpPr>
            <p:spPr>
              <a:xfrm>
                <a:off x="1981080" y="434304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6"/>
            <p:cNvGrpSpPr/>
            <p:nvPr/>
          </p:nvGrpSpPr>
          <p:grpSpPr>
            <a:xfrm>
              <a:off x="2438280" y="838080"/>
              <a:ext cx="3657600" cy="2057400"/>
              <a:chOff x="2438280" y="838080"/>
              <a:chExt cx="3657600" cy="2057400"/>
            </a:xfrm>
          </p:grpSpPr>
          <p:sp>
            <p:nvSpPr>
              <p:cNvPr id="215" name="Line 30"/>
              <p:cNvSpPr/>
              <p:nvPr/>
            </p:nvSpPr>
            <p:spPr>
              <a:xfrm>
                <a:off x="4343400" y="990360"/>
                <a:ext cx="0" cy="685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 flipH="1">
                <a:off x="2438280" y="838080"/>
                <a:ext cx="1371600" cy="1828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Line 32"/>
              <p:cNvSpPr/>
              <p:nvPr/>
            </p:nvSpPr>
            <p:spPr>
              <a:xfrm>
                <a:off x="5029200" y="838080"/>
                <a:ext cx="1066680" cy="20574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Text Box 33"/>
              <p:cNvSpPr/>
              <p:nvPr/>
            </p:nvSpPr>
            <p:spPr>
              <a:xfrm>
                <a:off x="2723760" y="114264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9" name="Text Box 34"/>
              <p:cNvSpPr/>
              <p:nvPr/>
            </p:nvSpPr>
            <p:spPr>
              <a:xfrm>
                <a:off x="3765240" y="108072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0" name="Text Box 35"/>
              <p:cNvSpPr/>
              <p:nvPr/>
            </p:nvSpPr>
            <p:spPr>
              <a:xfrm>
                <a:off x="5238360" y="106668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Line 37"/>
          <p:cNvSpPr/>
          <p:nvPr/>
        </p:nvSpPr>
        <p:spPr>
          <a:xfrm flipH="1">
            <a:off x="2895480" y="1981080"/>
            <a:ext cx="990720" cy="7621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4876920" y="1981080"/>
            <a:ext cx="914400" cy="99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3048120" y="1905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5002200" y="20574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du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Group 46"/>
          <p:cNvGrpSpPr/>
          <p:nvPr/>
        </p:nvGrpSpPr>
        <p:grpSpPr>
          <a:xfrm>
            <a:off x="1064160" y="2895120"/>
            <a:ext cx="916920" cy="1676520"/>
            <a:chOff x="1064160" y="2895120"/>
            <a:chExt cx="916920" cy="1676520"/>
          </a:xfrm>
        </p:grpSpPr>
        <p:sp>
          <p:nvSpPr>
            <p:cNvPr id="226" name="Line 42"/>
            <p:cNvSpPr/>
            <p:nvPr/>
          </p:nvSpPr>
          <p:spPr>
            <a:xfrm flipV="1">
              <a:off x="1066680" y="289512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43"/>
            <p:cNvSpPr/>
            <p:nvPr/>
          </p:nvSpPr>
          <p:spPr>
            <a:xfrm>
              <a:off x="1066680" y="3733560"/>
              <a:ext cx="914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44"/>
            <p:cNvSpPr/>
            <p:nvPr/>
          </p:nvSpPr>
          <p:spPr>
            <a:xfrm>
              <a:off x="1066680" y="403848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1064160" y="3352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rea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4114800" y="2666880"/>
            <a:ext cx="457200" cy="457200"/>
            <a:chOff x="4114800" y="2666880"/>
            <a:chExt cx="457200" cy="457200"/>
          </a:xfrm>
        </p:grpSpPr>
        <p:sp>
          <p:nvSpPr>
            <p:cNvPr id="231" name="Rectangle 14"/>
            <p:cNvSpPr/>
            <p:nvPr/>
          </p:nvSpPr>
          <p:spPr>
            <a:xfrm>
              <a:off x="41148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43434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4114800" y="3505320"/>
            <a:ext cx="457200" cy="457200"/>
            <a:chOff x="4114800" y="3505320"/>
            <a:chExt cx="457200" cy="457200"/>
          </a:xfrm>
        </p:grpSpPr>
        <p:sp>
          <p:nvSpPr>
            <p:cNvPr id="234" name="Rectangle 18"/>
            <p:cNvSpPr/>
            <p:nvPr/>
          </p:nvSpPr>
          <p:spPr>
            <a:xfrm>
              <a:off x="41148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43434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4114800" y="4343400"/>
            <a:ext cx="457200" cy="457200"/>
            <a:chOff x="4114800" y="4343400"/>
            <a:chExt cx="457200" cy="457200"/>
          </a:xfrm>
        </p:grpSpPr>
        <p:sp>
          <p:nvSpPr>
            <p:cNvPr id="237" name="Rectangle 21"/>
            <p:cNvSpPr/>
            <p:nvPr/>
          </p:nvSpPr>
          <p:spPr>
            <a:xfrm>
              <a:off x="41148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3434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9" name="Line 47"/>
          <p:cNvSpPr/>
          <p:nvPr/>
        </p:nvSpPr>
        <p:spPr>
          <a:xfrm>
            <a:off x="2971800" y="289548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8"/>
          <p:cNvSpPr/>
          <p:nvPr/>
        </p:nvSpPr>
        <p:spPr>
          <a:xfrm>
            <a:off x="2971800" y="373392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9"/>
          <p:cNvSpPr/>
          <p:nvPr/>
        </p:nvSpPr>
        <p:spPr>
          <a:xfrm>
            <a:off x="2971800" y="457200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116880" y="3092400"/>
            <a:ext cx="7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loc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wri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4572000" y="2895480"/>
            <a:ext cx="106668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4572000" y="2895480"/>
            <a:ext cx="1066680" cy="1295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 flipV="1">
            <a:off x="4572000" y="3200400"/>
            <a:ext cx="106668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4572000" y="373392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 flipV="1">
            <a:off x="4572000" y="3276720"/>
            <a:ext cx="106668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 flipV="1">
            <a:off x="4572000" y="4191120"/>
            <a:ext cx="10666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4648320" y="4572000"/>
            <a:ext cx="160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mote read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s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629400" y="2819520"/>
            <a:ext cx="1981080" cy="1600200"/>
            <a:chOff x="6629400" y="2819520"/>
            <a:chExt cx="1981080" cy="1600200"/>
          </a:xfrm>
        </p:grpSpPr>
        <p:sp>
          <p:nvSpPr>
            <p:cNvPr id="251" name="Rectangle 27"/>
            <p:cNvSpPr/>
            <p:nvPr/>
          </p:nvSpPr>
          <p:spPr>
            <a:xfrm>
              <a:off x="7696080" y="281952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7696080" y="381024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>
              <a:off x="6629400" y="320040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Line 61"/>
            <p:cNvSpPr/>
            <p:nvPr/>
          </p:nvSpPr>
          <p:spPr>
            <a:xfrm>
              <a:off x="6629400" y="419112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6680880" y="2851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writ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228600" y="3276720"/>
            <a:ext cx="838080" cy="914400"/>
            <a:chOff x="228600" y="3276720"/>
            <a:chExt cx="838080" cy="914400"/>
          </a:xfrm>
        </p:grpSpPr>
        <p:sp>
          <p:nvSpPr>
            <p:cNvPr id="257" name="Rectangle 9"/>
            <p:cNvSpPr/>
            <p:nvPr/>
          </p:nvSpPr>
          <p:spPr>
            <a:xfrm>
              <a:off x="228600" y="327672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28600" y="3581640"/>
              <a:ext cx="83808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228600" y="388620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0" name="Text Box 69"/>
          <p:cNvSpPr/>
          <p:nvPr/>
        </p:nvSpPr>
        <p:spPr>
          <a:xfrm>
            <a:off x="180720" y="2209680"/>
            <a:ext cx="131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Input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(o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HDF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8"/>
          <p:cNvSpPr/>
          <p:nvPr/>
        </p:nvSpPr>
        <p:spPr>
          <a:xfrm>
            <a:off x="345960" y="5410080"/>
            <a:ext cx="63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y default: 3-way replication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ate/dead machines: ignored,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ransparently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!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EE2-9D6B-49D6-9CDB-573DBE83382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8:59Z</dcterms:modified>
  <cp:revision>188</cp:revision>
  <dc:subject/>
  <dc:title>Large graph mining</dc:title>
</cp:coreProperties>
</file>