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E5A-6CFE-452A-A87A-3FE57010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5287-CCA8-4C83-AE55-3069EAE6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5830-5141-4134-8C17-AD0CA821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4E9-EE7C-4B5C-BB26-EE48BD36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A691-2311-4D3E-8C97-0B9627D5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F386-5856-48A8-A090-A389DC3A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B691-0E4C-4EB4-AA14-902BCAAC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4ACC-29C7-469C-B740-A01F6285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5396-59AB-47D7-B13C-A5467657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F6AE-CAF0-4D6B-8639-A255B70C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EFBC-C7F3-4699-9C93-8DD2CAE2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974-C3EB-440C-861F-EFFA3543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3044-0B00-4ECB-A87A-9C8DB8B5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E5FB-6738-4C58-BA29-9DF9DC92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57BC-8795-45E6-A95A-8B70FBED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700B-233C-483A-AFBF-34A08643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9A30-07D8-4512-981B-463BDD76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7B2AB-C0D1-45C4-A8CC-C8090B57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9AAE5-1984-4EF6-B092-170A4F1D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615C1-C6FB-473C-873E-FF10BDF9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1DDBD-CED5-4781-98FD-5892F389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35A94-D759-47B9-AEFF-7CE465FD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951-82F5-4A15-8E37-98F83C29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E2441-1F27-4056-8DBB-87A7F20A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B0278-5B25-448F-85C7-E2904B33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C0417-074A-48CE-A6A6-9F3A0BF2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FCCDF-0118-4703-AB98-3528B3AD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1A0EE-E7FE-435A-A19F-BF4286C6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776BB-EBBF-47F6-ADA1-C75C63FB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AB081-B5CE-4988-A3C0-43518076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0A86B-9B63-4982-864C-7941C3AF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89894-6EC9-4AAA-A62B-5E402E2B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9F0F2-3E44-4835-954E-26596A0E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A719-364F-429F-8027-CFC618EF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6DA41-5CE9-49E0-A32B-BD3EAB02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04F13-099E-4842-8406-D002D599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478BD-EF23-48CA-9898-C946C0A1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098B4-5E7D-4505-9F2F-EB5C75D7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70678-ABED-4059-A708-237BF743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E98A8-B347-46BE-B18C-65DD090F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5F4B1-F57C-437C-80EA-6CE15AC7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D1D07-1A8D-49AF-BA51-E8D57AD9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55414-1D95-4CBB-9BF7-B1C8AF67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A2EE-051E-4729-BF9A-822C43D2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2E4-24C8-4DF6-808D-D4B57CB2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D06F-0552-4596-822D-B4B8279F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4387-73ED-4AFF-91D5-A7AFCE6C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745-8C9F-46DA-BABC-9D02E824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42A6C09C-6E15-46AC-A805-3304BCC40C0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9-</a:t>
            </a:r>
            <a:fld id="{D6B754E3-937C-4175-B546-8D323061D75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02E30AC8-8941-456B-B9F4-1E1935FB9BC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1793D64A-A5B1-47B6-B6BC-2F6430FB93E6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Christos Faloutso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Gary Mill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Charalampos (Babis) Tsourakak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CEC2-9EE5-4F49-A400-4EA128CC6E8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2 – degree distribution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kewed degree distrib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ost nodes have degree 1 or 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ut they probably have a neighbor with degree 100,000 or so (!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actical implication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y need to delete/ignore those high degree nod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uld probably also trim the 1-degree nodes, saving significant space and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0F4A-1935-421E-AC69-92DA68F85B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3 – power law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wer-laws / skewed distributions in everything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ost pairs: within 2-3 steps; but, some pair: ~20 or more steps awa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riangles: power laws[Tsourakakis’08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# of cliques: ditto [Du+’09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eight vs degree: ditto [McGlohon+’08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43C4-E835-49F4-ACBE-1A13ED0B1EA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4 – communiti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egative dimensionality’ paradox [Chakrabarti+’04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actical implication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raphs may have no good cu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EF9C-1417-4E53-AB52-D56E23CEB9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nclusion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0) Graphs appear in numerous setting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) Singular / eigenvalue analysis: valuabl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xed points – random walks – importa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igenvalue and epidemic threshol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aplacians -&gt; communit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ACB0-1688-467C-A908-571BE640D2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nclusions – cont’d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2) Random walks -&gt; proxim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commendations, auto-captioning, etc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ast algo’s, through Sherman-Morris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3) Tera-byte scale graphs: hadoop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4) Beware: counter-intuitive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mall diameters; power-laws; possible lack of good cu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5F83-E5E2-4969-839D-2BD82B75D8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Acknowledgement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unding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8" name="Picture 5" descr="llnl_03"/>
          <p:cNvPicPr/>
          <p:nvPr/>
        </p:nvPicPr>
        <p:blipFill>
          <a:blip r:embed="rId1"/>
          <a:stretch/>
        </p:blipFill>
        <p:spPr>
          <a:xfrm>
            <a:off x="990720" y="4224240"/>
            <a:ext cx="4647960" cy="470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ibm-logo"/>
          <p:cNvPicPr/>
          <p:nvPr/>
        </p:nvPicPr>
        <p:blipFill>
          <a:blip r:embed="rId2"/>
          <a:stretch/>
        </p:blipFill>
        <p:spPr>
          <a:xfrm>
            <a:off x="5791320" y="4243320"/>
            <a:ext cx="685800" cy="324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nsf-logo"/>
          <p:cNvPicPr/>
          <p:nvPr/>
        </p:nvPicPr>
        <p:blipFill>
          <a:blip r:embed="rId3"/>
          <a:stretch/>
        </p:blipFill>
        <p:spPr>
          <a:xfrm>
            <a:off x="838080" y="1905120"/>
            <a:ext cx="6172200" cy="11905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8"/>
          <p:cNvSpPr/>
          <p:nvPr/>
        </p:nvSpPr>
        <p:spPr>
          <a:xfrm>
            <a:off x="3897360" y="492912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ITA (PA Inf. Tech. Alliance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2" name="Picture 11" descr=""/>
          <p:cNvPicPr/>
          <p:nvPr/>
        </p:nvPicPr>
        <p:blipFill>
          <a:blip r:embed="rId4"/>
          <a:stretch/>
        </p:blipFill>
        <p:spPr>
          <a:xfrm>
            <a:off x="990720" y="4929120"/>
            <a:ext cx="1371600" cy="301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"/>
          <p:cNvPicPr/>
          <p:nvPr/>
        </p:nvPicPr>
        <p:blipFill>
          <a:blip r:embed="rId5"/>
          <a:stretch/>
        </p:blipFill>
        <p:spPr>
          <a:xfrm>
            <a:off x="2590920" y="4929120"/>
            <a:ext cx="895320" cy="419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"/>
          <p:cNvPicPr/>
          <p:nvPr/>
        </p:nvPicPr>
        <p:blipFill>
          <a:blip r:embed="rId6"/>
          <a:stretch/>
        </p:blipFill>
        <p:spPr>
          <a:xfrm>
            <a:off x="1828800" y="5767560"/>
            <a:ext cx="762120" cy="4665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3"/>
          <p:cNvSpPr/>
          <p:nvPr/>
        </p:nvSpPr>
        <p:spPr>
          <a:xfrm>
            <a:off x="685800" y="3048120"/>
            <a:ext cx="805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IS-0705359, IIS-0534205, DBI-0640543, CNS-0721736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6" name="Picture 14" descr=""/>
          <p:cNvPicPr/>
          <p:nvPr/>
        </p:nvPicPr>
        <p:blipFill>
          <a:blip r:embed="rId7"/>
          <a:stretch/>
        </p:blipFill>
        <p:spPr>
          <a:xfrm>
            <a:off x="1066680" y="5843520"/>
            <a:ext cx="533520" cy="405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rcRect l="0" t="36001" r="0" b="36001"/>
          <a:stretch/>
        </p:blipFill>
        <p:spPr>
          <a:xfrm>
            <a:off x="6629400" y="4243320"/>
            <a:ext cx="1143000" cy="3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A7BB-9C9D-4924-BFC0-B6D5F4398D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Acknowledgements - foil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09680" y="1523880"/>
            <a:ext cx="4648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hakrabarti, Deepay (cross-association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olda, Tamara (tensor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padimitriou, Spiros (cross-association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un, Jimeng (tensor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ong, Hanghang (proximity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0" name="Rectangle 3" descr=""/>
          <p:cNvPicPr/>
          <p:nvPr/>
        </p:nvPicPr>
        <p:blipFill>
          <a:blip r:embed="rId1"/>
          <a:stretch/>
        </p:blipFill>
        <p:spPr>
          <a:xfrm>
            <a:off x="258840" y="2133720"/>
            <a:ext cx="1341360" cy="167616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3" descr=""/>
          <p:cNvPicPr/>
          <p:nvPr/>
        </p:nvPicPr>
        <p:blipFill>
          <a:blip r:embed="rId2"/>
          <a:stretch/>
        </p:blipFill>
        <p:spPr>
          <a:xfrm>
            <a:off x="7391520" y="1371600"/>
            <a:ext cx="1206360" cy="14479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7391520" y="4495680"/>
            <a:ext cx="1411200" cy="15940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152280" y="3962520"/>
            <a:ext cx="1428840" cy="13906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7391520" y="2971800"/>
            <a:ext cx="1251000" cy="1411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H="1">
            <a:off x="1676520" y="2743200"/>
            <a:ext cx="304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676520" y="4191120"/>
            <a:ext cx="304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10280" y="1828800"/>
            <a:ext cx="3049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10280" y="3276720"/>
            <a:ext cx="3049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10280" y="4724280"/>
            <a:ext cx="3049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FEDB-8160-47B0-816C-04A535A5557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HANK YOU!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61" name="Rectangle 3" descr=""/>
          <p:cNvPicPr/>
          <p:nvPr/>
        </p:nvPicPr>
        <p:blipFill>
          <a:blip r:embed="rId1"/>
          <a:srcRect l="11842" t="2738" r="7105" b="0"/>
          <a:stretch/>
        </p:blipFill>
        <p:spPr>
          <a:xfrm>
            <a:off x="609480" y="3886200"/>
            <a:ext cx="881280" cy="914400"/>
          </a:xfrm>
          <a:prstGeom prst="rect">
            <a:avLst/>
          </a:prstGeom>
          <a:ln w="0">
            <a:noFill/>
          </a:ln>
        </p:spPr>
      </p:pic>
      <p:pic>
        <p:nvPicPr>
          <p:cNvPr id="262" name="Rectangle 3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812880" cy="914400"/>
          </a:xfrm>
          <a:prstGeom prst="rect">
            <a:avLst/>
          </a:prstGeom>
          <a:ln w="0">
            <a:noFill/>
          </a:ln>
        </p:spPr>
      </p:pic>
      <p:pic>
        <p:nvPicPr>
          <p:cNvPr id="263" name="Rectangle 3" descr=""/>
          <p:cNvPicPr/>
          <p:nvPr/>
        </p:nvPicPr>
        <p:blipFill>
          <a:blip r:embed="rId3"/>
          <a:srcRect l="0" t="11250" r="0" b="0"/>
          <a:stretch/>
        </p:blipFill>
        <p:spPr>
          <a:xfrm>
            <a:off x="609480" y="2590920"/>
            <a:ext cx="836640" cy="9903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053800" y="1374840"/>
            <a:ext cx="4111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hristos Faloutso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ww.cs.cmu.edu/~christo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4160" y="2670120"/>
            <a:ext cx="401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Gary Miller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ww.cs.cmu.edu/~glmiller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55240" y="3965400"/>
            <a:ext cx="467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haralampos (Babis) Tsourakaki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ww.cs.cmu.edu/~ctsourak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1440" y="5486400"/>
            <a:ext cx="771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ww.cs.cmu.edu/~christos/TALKS/09-KDD-tutorial/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EB7F-151F-43D0-B125-87B8D826D0E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53341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B721-4AF7-48E0-A4F8-2BCE08CDBB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s – ‘laws’ of real graph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 #1: small and SHRINKING diamet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 #2: power law / skewed degree distribu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 #3: power laws in several aspec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 #4: communi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3683-12D9-4C1D-BD78-D00190B8F9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1 – diameter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mall diameter – ‘six degrees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the diameter SHRINKS as the graph grows (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40C5-0252-4E8D-8333-C5825267A8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43440" y="1914480"/>
            <a:ext cx="5200560" cy="39783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Diameter – “Patents”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33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atent citation network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25 years of dat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2400" y="5715000"/>
            <a:ext cx="2021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ime [years]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4880" y="175752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amet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48F9-D01B-439C-903B-4C9B9519FA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1 – diameter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mall diameter – ‘six degrees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the diameter SHRINKS as the graph grows (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actical implication: BFS may di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-step-away neighbors =&gt; half of the graph!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1535-FE38-4F3E-A39F-0037518074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s  2 – degree distribution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kewed degree distribu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st nodes have degree 1 or 2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ut they probably have a neighbor with degree 100,000 or so (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DE29-01FD-4E50-9E8D-AB3F208360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Degree distribut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eb hit counts [w/ A. Montgomery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776680" y="2895480"/>
            <a:ext cx="3841560" cy="3345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69640" y="29851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eb Site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29440" y="57376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PMingLiU"/>
              </a:rPr>
              <a:t>log(in-degre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74440" y="342144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PMingLiU"/>
              </a:rPr>
              <a:t>log(coun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00600" y="3902040"/>
            <a:ext cx="701640" cy="117324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50520" y="40899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PMingLiU"/>
              </a:rPr>
              <a:t>Zip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760800" y="2362320"/>
            <a:ext cx="2001600" cy="3126600"/>
            <a:chOff x="6760800" y="2362320"/>
            <a:chExt cx="2001600" cy="3126600"/>
          </a:xfrm>
        </p:grpSpPr>
        <p:sp>
          <p:nvSpPr>
            <p:cNvPr id="203" name=""/>
            <p:cNvSpPr/>
            <p:nvPr/>
          </p:nvSpPr>
          <p:spPr>
            <a:xfrm>
              <a:off x="7238880" y="32767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38880" y="44197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38880" y="38862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534520" y="23623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534520" y="2895480"/>
              <a:ext cx="152280" cy="15264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534520" y="34290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534520" y="41148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34520" y="4724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211" name=""/>
            <p:cNvCxnSpPr>
              <a:stCxn id="203" idx="6"/>
              <a:endCxn id="207" idx="2"/>
            </p:cNvCxnSpPr>
            <p:nvPr/>
          </p:nvCxnSpPr>
          <p:spPr>
            <a:xfrm flipV="1">
              <a:off x="7410240" y="2971440"/>
              <a:ext cx="1105560" cy="3816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203" idx="6"/>
              <a:endCxn id="208" idx="2"/>
            </p:cNvCxnSpPr>
            <p:nvPr/>
          </p:nvCxnSpPr>
          <p:spPr>
            <a:xfrm>
              <a:off x="7410240" y="3352680"/>
              <a:ext cx="1105560" cy="1533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213" name=""/>
            <p:cNvCxnSpPr>
              <a:stCxn id="205" idx="6"/>
              <a:endCxn id="208" idx="2"/>
            </p:cNvCxnSpPr>
            <p:nvPr/>
          </p:nvCxnSpPr>
          <p:spPr>
            <a:xfrm flipV="1">
              <a:off x="7410240" y="3504960"/>
              <a:ext cx="1105560" cy="45792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214" name=""/>
            <p:cNvCxnSpPr>
              <a:stCxn id="204" idx="6"/>
              <a:endCxn id="208" idx="2"/>
            </p:cNvCxnSpPr>
            <p:nvPr/>
          </p:nvCxnSpPr>
          <p:spPr>
            <a:xfrm flipV="1">
              <a:off x="7410240" y="3504600"/>
              <a:ext cx="1105560" cy="99108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215" name=""/>
            <p:cNvSpPr/>
            <p:nvPr/>
          </p:nvSpPr>
          <p:spPr>
            <a:xfrm>
              <a:off x="6760800" y="480060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users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37720" y="5029200"/>
              <a:ext cx="7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ites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 flipH="1">
            <a:off x="5411520" y="5051520"/>
            <a:ext cx="114120" cy="5191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59200" y="45100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``ebay’’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5D47-2C0A-42D0-9EF0-4F80DA2D2C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pinions.co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ho-trusts-whom [Richardson + Domingos, KDD 2001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1" name="Rectangle 3" descr=""/>
          <p:cNvPicPr/>
          <p:nvPr/>
        </p:nvPicPr>
        <p:blipFill>
          <a:blip r:embed="rId1"/>
          <a:stretch/>
        </p:blipFill>
        <p:spPr>
          <a:xfrm>
            <a:off x="685800" y="2263680"/>
            <a:ext cx="3809880" cy="3016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914120" y="56376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out) deg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0840" y="19800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u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781440" y="4605480"/>
            <a:ext cx="790560" cy="2728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0200" y="433548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rusts-2000-people us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17B5-57FB-4796-BDBB-4C3F11E6F4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13:27Z</dcterms:created>
  <dc:creator/>
  <dc:description/>
  <dc:language>en-US</dc:language>
  <cp:lastModifiedBy>christos</cp:lastModifiedBy>
  <dcterms:modified xsi:type="dcterms:W3CDTF">2009-06-05T15:41:58Z</dcterms:modified>
  <cp:revision>192</cp:revision>
  <dc:subject/>
  <dc:title>Large graph mining</dc:title>
</cp:coreProperties>
</file>